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D6D7-905F-42A0-A793-C147976B3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83C5-5559-4FE5-9125-963522A4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5100-3735-4E99-9B39-C15B3B3F7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CB7E-72D3-4EF9-AB71-4981BD77C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F0D3-5D58-40FC-BF96-FA25402D4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1ACA-B897-4B8C-8638-25ADEDCF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EE9A-5CC1-479B-874C-CC43C849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BB22-E87C-43E8-8435-4B8C618F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206D-D8EA-462A-9937-3D4A597F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9C82-2F00-4697-97AA-ACC323D5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7407-E753-4B9A-B56D-0DD895CB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E664-F38C-4D06-B103-4A87F730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FB3CD-D054-4E83-8A45-2C4A788F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94E4-234A-47B2-BFDD-495BEF8A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D4E2-439D-482E-BE68-D327B5C8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0849-3604-4CFB-8755-86010EB0C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26E7-E583-4C7B-BD1E-4D5CDBC6F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09AE5-4EEF-4D79-BAC7-B0A7BC209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71A91-705C-4BF8-B82A-9D1FA06E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2D0F5-F9C1-46C8-A704-775F432C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EF1BA-7FE5-4C31-866A-9C0F05D3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64872-5FE7-44A6-AC34-4CAC2236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F8DA-2CC3-49F6-869D-16442B2D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ACC30-AD54-4B9B-9D92-0DB7E666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B797D-89AF-4695-92A7-6B1333EC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FFABE-AE83-4C47-B64F-7DAFD510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8AE04-2F29-4EB7-A917-098A79C3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05CE7-1BD8-424A-87EA-2ADB064E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35094-13A0-46A7-AB4F-6AF44A79E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15815-55B9-458A-AD6C-0D9036806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6CDC9-4D05-4CB7-AB1D-4CA7126FE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184BF-B8B0-48CA-9F2E-43664685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EE52E-E6D9-45BD-A80B-2155E8CA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627B-3FDA-449B-A0F7-E629B4EA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8F08B-05AA-4A1F-97F9-E0B012E6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A06EC-C65C-4042-B8F8-F972E506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823EB-2BB6-41F8-AC06-901610AC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6F7EE-89EE-44E6-AD2E-4557785D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DFCEF-5056-474C-A709-167ED840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59950-AD70-4D24-9201-FB4CE243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DCEF1-C093-498C-9D0C-BD6863E4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62377-77C9-4107-A615-898449F4C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743D7-F9BB-4205-8A6F-021064EF5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E5989-9CCC-453B-9C31-7ACEBE9E4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BD78-107F-4676-8F81-109E4828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174C3-690D-48A9-A8B5-80B008B9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52E5F-51FA-40AF-B040-63482890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E1211-DA49-4B11-AB4F-47A8DBB3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15A04-7FB5-4001-8DAA-BC186B59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166BC-D606-41DF-819A-172D7422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3ACFF-1993-4E5E-B14C-B14690E1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1CE7C-9CCC-4647-A4FD-80791733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9BC99-A646-47E4-928C-F1011188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F01C4-256B-472F-BDDE-E85BFFFA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7A2A8-5C5D-4DD0-B7CE-27B6BA68E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508C-9395-410F-B1DF-3D56E9F9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F0D08-8906-46A0-86AD-0B703221D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A66BB-9069-468C-A06A-3A0FC27E2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A9FB6-CB0E-4751-8B01-9121DBB2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9D667-0239-4EB7-AF0F-7FF3F34E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F6B01-ED2A-45E7-8A3F-B63A2306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1B072-361A-42C1-A50C-513FDE9D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517EA-2823-4439-BED4-81DE439B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146B1-9045-430B-BC68-34A52EFF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D12CA-4D60-4946-B61B-D84C0DCD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35360-428F-45C7-B408-54AACFA1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02FB-699E-4840-A8C6-EED48980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63BA6-7BBD-48A3-9F37-0011897E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D5CE6-A101-42DF-8782-3994ED8D5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A84CC-0245-43A2-9BF9-E0F886946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2DF39-E0B1-4EF1-B893-900BD727E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DA445-9D2A-446E-9B2E-7AA5CD98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3E5B2-DA92-43B2-96A7-6DC7AE12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A2F78-069C-45EA-9CB7-87972035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79FA4-6776-40C3-82B8-627CD110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B6DD8-F65D-4DCC-B4CF-8AD315DE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783DA-DB21-4019-BA91-7C12ABE4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0624-213E-4234-BE10-F563ECAC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3B31F-2024-46D5-9C96-01FDA5CB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CC15D-D5A2-4805-B37F-A32C2743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818AD-7FC7-4A6D-B242-E68D05B7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0DADF-244C-4541-827A-DBE1287DB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1DB26-E1C1-474B-98FF-E4044E7A8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51C0-5E1A-40F8-A5E1-6A686A79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08AE-7BC1-40E7-9460-C2D5CB26D477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DCB5-D0F8-442D-BA88-1246458CAE0A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A0B1-574C-4CC5-B68E-AD3F76CB9577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4244-E7E7-4571-8845-45F9A91AD716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1EBB-B49D-4434-B033-3E7DC6EBB487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1519-1899-4901-A637-C9544CC704D2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126C-F5DF-4C7A-88A8-D305C3CE58CB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«Коневская основная общеобразовательная школа»</a:t>
            </a:r>
            <a:br>
              <a:rPr sz="2000"/>
            </a:b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Corbel"/>
              </a:rPr>
              <a:t>Преодоление разрыва в образовательных возможностях и достижениях обучающихся, обусловленных социально-экономическими характеристиками их семей, сложностью контингента и их переход в статус резильентных за счёт повышения педагогического и ресурсного потенциала школы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595959"/>
                </a:solidFill>
                <a:latin typeface="Corbel"/>
              </a:rPr>
              <a:t>2020 -2021 уч. год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4" descr="C:\Users\Инна\AppData\Local\Microsoft\Windows\Temporary Internet Files\Content.IE5\5WAUPLBX\81266624ef02[1].png"/>
          <p:cNvPicPr/>
          <p:nvPr/>
        </p:nvPicPr>
        <p:blipFill>
          <a:blip r:embed="rId1"/>
          <a:stretch/>
        </p:blipFill>
        <p:spPr>
          <a:xfrm>
            <a:off x="1830240" y="3860640"/>
            <a:ext cx="24544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11617"/>
                </a:solidFill>
                <a:latin typeface="Corbel"/>
              </a:rPr>
              <a:t>Описание ситуации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МБОУ «Коневская ООШ» расположена в Балахнинском районе Нижегородской области в деревне Конево. В школе 60 обучающихся 1-9 классов, 12 учителей.</a:t>
            </a:r>
            <a:br>
              <a:rPr sz="1800"/>
            </a:b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Одной из ключевых проблем  школы являлась недостаточная предметная и методическая компетентность педагогических работников. </a:t>
            </a:r>
            <a:br>
              <a:rPr sz="1800"/>
            </a:b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Не все педагоги в полной мере усвоили приемы работы с мультимедиа и другой современной аппаратурой, проведение онлайн-уроков</a:t>
            </a:r>
            <a:r>
              <a:rPr b="0" lang="ru-RU" sz="1800" spc="-1" strike="noStrike">
                <a:solidFill>
                  <a:srgbClr val="572314"/>
                </a:solidFill>
                <a:latin typeface="Corbe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268280"/>
            <a:ext cx="749952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Corbel"/>
              </a:rPr>
              <a:t>Основная</a:t>
            </a: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595959"/>
                </a:solidFill>
                <a:latin typeface="Corbel"/>
              </a:rPr>
              <a:t>цел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Разработка и реализация комплекса мер по снижению уровня значимости рисков снижения результатов обучения для перехода школы в статус резильентных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e190d"/>
                </a:solidFill>
                <a:latin typeface="Times New Roman"/>
                <a:ea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02920" y="404280"/>
            <a:ext cx="7489800" cy="1295640"/>
          </a:xfrm>
          <a:prstGeom prst="rect">
            <a:avLst/>
          </a:prstGeom>
          <a:noFill/>
          <a:ln w="9360">
            <a:solidFill>
              <a:srgbClr val="26262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2314"/>
                </a:solidFill>
                <a:latin typeface="Corbel"/>
              </a:rPr>
              <a:t>Основная </a:t>
            </a:r>
            <a:r>
              <a:rPr b="0" lang="ru-RU" sz="18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572314"/>
                </a:solidFill>
                <a:latin typeface="Corbel"/>
              </a:rPr>
              <a:t>задача:</a:t>
            </a:r>
            <a:br>
              <a:rPr sz="1800"/>
            </a:b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677600" y="907560"/>
            <a:ext cx="7070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Разработка и реализация программы методической работы с педагогами, имеющими предметные и методические дефициты компетентностей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 проведение консультирования педагогов с низкими предметными и методическими компетентностям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организация прохождения курсов повышения квалификации и в соответствии с выявленными профессиональными дефицитами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разработка и реализация индивидуальных планов профессионального развития педагогов по ликвидации профессиональных дефицитов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подготовка и организация мероприятий по обмену опытом между педагогами школ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2314"/>
                </a:solidFill>
                <a:latin typeface="Corbel"/>
              </a:rPr>
              <a:t>Описание результата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692280"/>
            <a:ext cx="7499520" cy="555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Corbel"/>
              </a:rPr>
              <a:t>Инструментарий диагностик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Проведение мониторинга профессиональных компетентностей педагогов. Разработка инструментария и проведение диагностики профессиональных компетентностей педагогов: диагностика проведена на сайте Я Учитель  </a:t>
            </a:r>
            <a:r>
              <a:rPr b="1" lang="ru-RU" sz="1800" spc="-1" strike="noStrike">
                <a:solidFill>
                  <a:srgbClr val="595959"/>
                </a:solidFill>
                <a:latin typeface="Corbel"/>
              </a:rPr>
              <a:t> («Профиль компетенций») </a:t>
            </a: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с указанием результатов компетенций учителей, через определенный период  времени проведена повторная диагностика (результаты указаны в диаграмме)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Диаграмма 4" descr=""/>
          <p:cNvPicPr/>
          <p:nvPr/>
        </p:nvPicPr>
        <p:blipFill>
          <a:blip r:embed="rId1"/>
          <a:stretch/>
        </p:blipFill>
        <p:spPr>
          <a:xfrm>
            <a:off x="2289240" y="3017880"/>
            <a:ext cx="557352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63972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               </a:t>
            </a: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Разработана программа методической работы с педагогами, имеющими предметные и методические дефициты компетентностей</a:t>
            </a:r>
            <a:br>
              <a:rPr sz="1800"/>
            </a:b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         Содержательный план проведения консультаций педагогов с низкими предметными и методическими компетентностями.</a:t>
            </a:r>
            <a:br>
              <a:rPr sz="1800"/>
            </a:b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         График прохождения курсов повышения квалификации</a:t>
            </a:r>
            <a:br>
              <a:rPr sz="1800"/>
            </a:b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         Индивидуальны планы профессионального развития педагогов по ликвидации профессиональных дефицитов.</a:t>
            </a:r>
            <a:br>
              <a:rPr sz="1800"/>
            </a:b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         Банк методических материалов педагогов, мультимедийные презентации  с описанием опыта педагогов.</a:t>
            </a:r>
            <a:br>
              <a:rPr sz="1800"/>
            </a:b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         Информационная справка с выводами о динамике уровня развития предметных и методических компетентностей педагогов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0" name="Picture 5" descr="C:\Users\A4F7~1\AppData\Local\Temp\Rar$DIa2644.22603\1624528579928.jpg"/>
          <p:cNvPicPr/>
          <p:nvPr/>
        </p:nvPicPr>
        <p:blipFill>
          <a:blip r:embed="rId1"/>
          <a:stretch/>
        </p:blipFill>
        <p:spPr>
          <a:xfrm>
            <a:off x="1692360" y="3825720"/>
            <a:ext cx="1660320" cy="22212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C:\Users\A4F7~1\AppData\Local\Temp\Rar$DIa2644.30585\1624528581606.jpg"/>
          <p:cNvPicPr/>
          <p:nvPr/>
        </p:nvPicPr>
        <p:blipFill>
          <a:blip r:embed="rId2"/>
          <a:stretch/>
        </p:blipFill>
        <p:spPr>
          <a:xfrm>
            <a:off x="3848040" y="3828960"/>
            <a:ext cx="1660680" cy="22179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C:\Users\A4F7~1\AppData\Local\Temp\Rar$DIa2644.37208\1624528582314.jpg"/>
          <p:cNvPicPr/>
          <p:nvPr/>
        </p:nvPicPr>
        <p:blipFill>
          <a:blip r:embed="rId3"/>
          <a:stretch/>
        </p:blipFill>
        <p:spPr>
          <a:xfrm>
            <a:off x="6084720" y="3825720"/>
            <a:ext cx="1656000" cy="22147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8" descr="C:\Users\Андрей\Downloads\1624529682694.jpg"/>
          <p:cNvPicPr/>
          <p:nvPr/>
        </p:nvPicPr>
        <p:blipFill>
          <a:blip r:embed="rId4"/>
          <a:stretch/>
        </p:blipFill>
        <p:spPr>
          <a:xfrm>
            <a:off x="-9791640" y="-15773400"/>
            <a:ext cx="251928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2314"/>
                </a:solidFill>
                <a:latin typeface="Corbel"/>
              </a:rPr>
              <a:t>Заключение</a:t>
            </a:r>
            <a:br>
              <a:rPr sz="2400"/>
            </a:b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836280"/>
            <a:ext cx="749952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Положительная динамика уровня развития предметных и методических компетентностей педагогов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Повышение качества знаний</a:t>
            </a:r>
            <a:r>
              <a:rPr b="1" lang="ru-RU" sz="1800" spc="-1" strike="noStrike">
                <a:solidFill>
                  <a:srgbClr val="595959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  обучающихся основной школы в 2020-2021 учебном году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Улучшились результаты ОГЭ. Все выпускники школы закончили обучение на «4» и «5»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6" name="Диаграмма 3" descr=""/>
          <p:cNvPicPr/>
          <p:nvPr/>
        </p:nvPicPr>
        <p:blipFill>
          <a:blip r:embed="rId1"/>
          <a:stretch/>
        </p:blipFill>
        <p:spPr>
          <a:xfrm>
            <a:off x="2505240" y="2873520"/>
            <a:ext cx="39891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07:36:20Z</dcterms:created>
  <dc:creator>1</dc:creator>
  <dc:description/>
  <dc:language>en-US</dc:language>
  <cp:lastModifiedBy>Андрей</cp:lastModifiedBy>
  <dcterms:modified xsi:type="dcterms:W3CDTF">2021-06-24T10:40:09Z</dcterms:modified>
  <cp:revision>162</cp:revision>
  <dc:subject/>
  <dc:title>Министерство образования Российской Федерации Среднего профессионального образования Нижегородский машиностроительный техникум</dc:title>
</cp:coreProperties>
</file>