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5AE0-83A1-4966-8455-454F9ADA49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4C7F-F91F-4DD2-A475-30A64DD332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BD45-D160-4D8C-B5C4-C921DF1E85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19C1-5BFC-44B7-8788-3D54DF29E0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FBA1-7CCA-43FE-AE6E-385C021F1E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6A56-628A-4C04-9A86-E00B3E726E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1A7C-E644-44D4-91B7-FE5C6E86BB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0412-6E14-4CF8-880C-4FDEF05D6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CEE2-B2E1-4017-8433-BCC3CEB02E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28BD-1DCD-4D3B-933A-F50F55A596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7197-560B-483A-8B1B-067B675450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C7EC-E408-4D9D-9F68-5B53A754D4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44F3-1367-4A3C-A87C-DB5A8CEEDB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AC4A-6ABA-42B5-9B99-8B55214218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2E4-5FB8-4371-BAF0-CC409C7E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B14-FC27-46C8-BC33-94667353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E76-344C-469F-92CC-31E2F4E5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892-CCE0-456D-B1ED-D16FE569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86AD-4525-4AB1-8EE7-F4A86369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FBC4-05B2-49C7-8B91-E6A5E6C1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325A-4C28-4C55-A562-97F2E89F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2843-A742-48E8-B06D-6A4836A6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DFD4-E8F0-4673-9D08-EA4519B4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1758-2A98-46C4-BCD7-0A9F75B2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8ECC-263E-43A9-A6CB-87BF4839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1C7-5F63-495E-910F-8C67F6C4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FBFE-090B-4D33-AF9E-C3466BD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4BEC-4BBD-4DC1-AFA8-4494CEF7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2F7E-0193-4B3E-A883-D585DAA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A414-642D-48AC-8695-FFF3442A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019E-690C-4CEF-98C6-05A8CE65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DC0D-451A-40BC-8197-8FF7A3E2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1A7C2-3827-4795-986A-BDDE35D1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4C69-589D-4E28-9937-50AD1637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F6F08-1C4F-44EB-8AF3-6D1DD3B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23BF-C6AF-45A0-8763-37FDBD05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036-E399-418F-814F-CD1935B4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C2158-5774-4BE1-9D22-92BCA3BA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03FB7-166A-4DDA-9481-54140985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B1D5-0963-46A3-8713-6EF68368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0772-731A-402B-834B-E19B0309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5555-076C-4F5C-83EA-15BCDDEA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B3126-6080-4119-B405-E6246811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2B1E-708D-4C73-AEA9-31B14BBB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4872-5CC6-4E6B-863D-FC376F71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56A2A-10A5-4758-A056-CF41E2B7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A94A1-F702-4C8F-B05A-FC7BF677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3CB-60DC-4F29-98DD-7F9AD200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EF68-868E-456B-AF99-C9A2F19D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EB7C-366B-4163-9511-DCEA043F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EBC2-4D71-4F72-85D1-2B5708A5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B8CC-C872-41D2-918A-2156F0FD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FD4D-EE10-47AA-BB90-F4E0DF33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397AF-E941-4BB6-92F6-E84F9358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6D0C-85CD-44AF-9562-B59B22C0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69D95-1F45-45D7-97DB-6D09C225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7A679-DFF3-4BDF-9835-36E99F7D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B8A8C-77A6-4D9D-92AD-A5A3AAFC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13D-572C-4D8C-8E38-F6FB10C9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110A-1073-44AC-A752-E3B82D43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3963F-26EA-4C71-ACCF-7F638B17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F6C20-CD3C-4CEE-9D77-B07415EC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6B81-0C3B-4C0C-80E0-40E4A65E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D70A5-DE65-4E08-96C0-C053441B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80693-A1C4-4F1C-A163-0EA4E93A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EB376-F4B7-4944-99BE-6423AED3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C924A-0D15-4AE8-B315-F6934B5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97AC9-D21C-4318-A7C4-3C5F2BA2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09E87-925A-46B1-AB87-32997C48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958-B83B-4E1F-B63A-224D100C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1F5B9-A7DE-43FF-A670-AFC4D306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DDA88-85EE-44BD-B228-825E5A14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FF2CF-BAE8-4E4B-B026-DD475B61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883F0-6836-4487-BC80-058C2D04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A21B6-AB01-44C7-962C-2686AE6E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BF3AE-4E5C-4795-BDA8-1CC72995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E9E3A-B005-4394-90E0-DD07D4B4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7AF7D-57E1-4A25-8274-BECAA11D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1F1D4-77AC-41B9-BAC3-5C7AFA2D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F7B4F-1E28-4CE4-8B37-F9AA2DD1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F2F-2B5C-4BF2-B8DA-F67D44B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50FBD-C142-41D7-8C5A-A07F3487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B73F2-E527-4E4D-A388-94D663F2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50215-957D-45C0-BCFC-4F0A177E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B3AC4-DAA0-4016-A7C5-7BCF1031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92E5E-114E-47C0-80B4-2341D327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98B94-AB02-4F82-B6FE-C15712E2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13E6-F74F-4460-A042-9668B90D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B21A4-B68C-44BC-BFEA-84C6AAD0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C6228-7E9F-4B50-BC83-0AD10803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4EF9F-B675-4E69-BF53-DB1F9E23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604-5ACA-4E70-BEE3-FECFFA04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D480E-49A7-4C97-B793-45DB5613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AC995-3B8A-4C34-B39A-2808FEFA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BE89D-176E-450E-A813-FF4E17DF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39071-883C-4FC6-A9F5-CDB02826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AEE2E-9B0D-4E94-83E5-8BB43450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278D7-AB7A-471C-AB62-B4F95780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CC879-BAF1-4EA1-8610-E9629F4F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7E5D2-0775-4B4C-A84F-ECB2807D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27A0D-C104-4F1D-8E63-C02C244D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221B4-DE48-45D8-8771-3752BB00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B59-8F89-4C0E-9E8A-047387AC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06A73-21BC-4F6B-A2C9-8763B2F3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ABFA5-AC2B-4210-BFD0-72E702F7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CF124-7A6E-4F62-B965-9E75030F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B52E2-C339-4E40-BEE0-EF19CB1A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70CBE-62E1-4C3C-84C0-A1E97D08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6591E-AB1B-411F-AE5A-EE053049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CA611-8499-462E-8FCE-F2F465BC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62A4-4BD7-4F6E-BEC6-4CFC2750552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FCAD-44C5-49DF-8860-A94F4D44BB3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F55D-D73A-4315-8D07-261C5BEB992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B3F1-5711-4DCE-89CD-C09E248BEEE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73F2-C861-4937-BB9B-68D5A01D203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59A2-3869-4EFF-B38C-592CCA894D5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2623-3A83-4DB1-94DF-F1C137DFAAC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FDE2-96A8-446E-85FC-17A25B0F2B0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950760"/>
            <a:ext cx="7785000" cy="262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933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Зызыкина И.Ю., 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Афонинская СШ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ласти мотивации учебной деятельности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МРЦ «Организация психолого-педагогического сопровождения участников образовательного процесса» (МБОУ СШ № 6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Центра профориентации «Твой жизненный выбор» (МБУ ДО ЦВР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семинаре «Диагностика профессиональных дефицитов педагогов. Анализ соответствия результатов диагностик профессиональной компетентности учителей выявленным дефицитам обучающихся» (МБОУ Лицей №7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еспечении достижения запланированных результатов в процессе проведения учебного занятия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познавательная деятельность педагогов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образовательных маршрутов педагогов по формированию профессиональных компетен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по организации продуктивной и результативной деятельности обучающихся на учебном занятии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визии – взаимопосещение уроков с последующим анализ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ставничества молодых специалистов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26960" y="244440"/>
            <a:ext cx="8283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802280" cy="14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28760" y="1785960"/>
          <a:ext cx="8501040" cy="4541760"/>
        </p:xfrm>
        <a:graphic>
          <a:graphicData uri="http://schemas.openxmlformats.org/drawingml/2006/table">
            <a:tbl>
              <a:tblPr/>
              <a:tblGrid>
                <a:gridCol w="515880"/>
                <a:gridCol w="2535120"/>
                <a:gridCol w="1525680"/>
                <a:gridCol w="1307880"/>
                <a:gridCol w="26164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,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 исполне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дифференциации и индивидуального развития обучающихся для достижения образователь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дидактический инструментарий, используемый для  дифференциаци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мотив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ситуации, обеспечивающие осознанное отношение к изучаемому предмету на основе  профессионального выбора обучаю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существлении контроля и оценки учебных достижений, текущих и итоговых образовательных результа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осуществлять объективную оценку знаний обучающихся на основе различных методов контроля и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хват программой МР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формальное обучение – 4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неформальное обучение – 7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не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формальное образование – 100% педагогов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2. Положительная динамик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профессиональной компетентности педагогов по выявленным дефицита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– до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4 балл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(по шкале диагностической методики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3. Эффект от реализации программы МР–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ожительная динамика образовательных результатов обучающихс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ВПР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ГИА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515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2142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Самооценка и экспертная оценка сформированности компетентности педагого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Lucida Sans Unicode"/>
              </a:rPr>
              <a:t>Диагностическая методика лаборатории информационно-методического обеспечения выравнивания образовательных результатов ГБОУ ДПО НИР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4756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79280" y="476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чень дефицитов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1. Умение формировать цели и результаты программ учебных дисципли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2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разработать собственные методические и дидактические материалы, обеспечивающие достижение планируемых результат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3. Умение планировать педагогическую деятельность при реализации программ с учетом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1. Умение учитывать образовательные предметные дефициты обучающихся при отборе содержания учебного материал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дидактический инструментарий, используемый для дифференциации обучения 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ситуации, обеспечивающие осознанное отношение к изучаемому предмету на основе профессионального выбора  (5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3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привлекать потенциал родителей к обеспечению необходимого уровня позитивной мотивации к учебной деятельно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4.3. Умение организовывать продуктивную и результативную деятельность обучающихся на учебном занят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1. Умение использовать системные формы и методы контроля учебных достижений, текущих и итоговых образовательных результатов обучающихс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осуществлять объективную оценку знаний обучающихся на основе различных методов контроля и диагностики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3. Умение осуществлять анализ образовательных результатов и корректировать образовательную деятельность в соответствии с его итог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8978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Категории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8"/>
          <p:cNvSpPr/>
          <p:nvPr/>
        </p:nvSpPr>
        <p:spPr>
          <a:xfrm>
            <a:off x="1214280" y="5500800"/>
            <a:ext cx="6715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 flipV="1">
            <a:off x="1143000" y="642960"/>
            <a:ext cx="1440" cy="485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8"/>
          <p:cNvSpPr/>
          <p:nvPr/>
        </p:nvSpPr>
        <p:spPr>
          <a:xfrm>
            <a:off x="3059280" y="5572080"/>
            <a:ext cx="4370400" cy="35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20"/>
          <p:cNvCxnSpPr/>
          <p:nvPr/>
        </p:nvCxnSpPr>
        <p:spPr>
          <a:xfrm>
            <a:off x="6643800" y="585792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 flipH="1" flipV="1">
            <a:off x="1928520" y="578556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Прямоугольник 26"/>
          <p:cNvSpPr/>
          <p:nvPr/>
        </p:nvSpPr>
        <p:spPr>
          <a:xfrm>
            <a:off x="7715160" y="571500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00040" y="564372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из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 rot="16200000">
            <a:off x="-928440" y="2928600"/>
            <a:ext cx="3643200" cy="3574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офессиональная 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Прямая со стрелкой 29"/>
          <p:cNvCxnSpPr/>
          <p:nvPr/>
        </p:nvCxnSpPr>
        <p:spPr>
          <a:xfrm flipV="1">
            <a:off x="927720" y="99936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30"/>
          <p:cNvCxnSpPr/>
          <p:nvPr/>
        </p:nvCxnSpPr>
        <p:spPr>
          <a:xfrm flipH="1">
            <a:off x="928440" y="5072040"/>
            <a:ext cx="21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Прямоугольник 31"/>
          <p:cNvSpPr/>
          <p:nvPr/>
        </p:nvSpPr>
        <p:spPr>
          <a:xfrm>
            <a:off x="142920" y="357120"/>
            <a:ext cx="107136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50"/>
          <p:cNvSpPr/>
          <p:nvPr/>
        </p:nvSpPr>
        <p:spPr>
          <a:xfrm flipH="1">
            <a:off x="4642920" y="714240"/>
            <a:ext cx="1800" cy="478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52"/>
          <p:cNvSpPr/>
          <p:nvPr/>
        </p:nvSpPr>
        <p:spPr>
          <a:xfrm>
            <a:off x="1143000" y="2928960"/>
            <a:ext cx="635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2"/>
          <p:cNvSpPr/>
          <p:nvPr/>
        </p:nvSpPr>
        <p:spPr>
          <a:xfrm>
            <a:off x="4716360" y="692280"/>
            <a:ext cx="3959280" cy="21668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Успешные: могут и хот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Мотивированы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Успешны в  освоении образовательных технологий на основе личных убеждений, глубокого осмысления теоретических основ, опыта реальных ситу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4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3"/>
          <p:cNvSpPr/>
          <p:nvPr/>
        </p:nvSpPr>
        <p:spPr>
          <a:xfrm>
            <a:off x="1285920" y="642960"/>
            <a:ext cx="3286080" cy="221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Пассивные: могут, но не хот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гут применять новые технологии в своей деятельности, но это зависит от формы стим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Изменения воспринимают как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64"/>
          <p:cNvSpPr/>
          <p:nvPr/>
        </p:nvSpPr>
        <p:spPr>
          <a:xfrm>
            <a:off x="4714920" y="3000240"/>
            <a:ext cx="3929040" cy="24289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Comic Sans MS"/>
              </a:rPr>
              <a:t>Активные: хотят, но не могу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Позитивно относятся к изменениям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Дублируют новые подходы в своей деятельности без теоретического их осмысления, не умеют их творчески перерабат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5"/>
          <p:cNvSpPr/>
          <p:nvPr/>
        </p:nvSpPr>
        <p:spPr>
          <a:xfrm>
            <a:off x="1285920" y="3357720"/>
            <a:ext cx="3286080" cy="200016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Инертные: не хотят и не мог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Используют старые формы и методы деятельности, имитируют процесс внедрения 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Не мотивированы на изменения, действуют только по требованию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Lucida Sans Unicode"/>
              </a:rPr>
              <a:t>повышение уровня профессиональных компетентностей  учителей для достижения стабильно положительных образовательных результатов обучающихся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разработки и реализации образовательных програм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дифференциации и индивидуализации обуч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мотивации учебной деятельност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существлении контроля и оценки учебных достижений, текущих и итоговых образовательных результатов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1. По целевым установкам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держивающее, обеспечивающее функционирование обучен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вающее обучени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2. По формам организации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1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ешне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 программам ГБОУ ДПО НИРО (план-график 2019-2020) – на бюджетной основ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на территории учреждений-партнеров г. Кстово (МБОУ Лицей № 7, МБОУ СШ № 6, МБУ ДО ЦВР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утришкольно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с приглашением специалистов ГБОУ ДПО НИРО (по договору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в районе по плану ИМО департамента образования Кстовского муниципального района (занятия РМО, творческих и проблемных групп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ающие семинары, практикумы (педагоги и руководители ОО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и в области дифференциации и индивидуализации обуче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русскому языку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обществознанию 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Методика подготовки к ЕГЭ и ОГЭ по истории и обществознанию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Организация подготовки выпускников 11 классов к ГИА по математике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Проектирование учебного занятия по предметам естественнонаучного цикла в условиях реализации ФГОС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существлении контроля и оценки учебных достижений, текущих и итоговых образовательных результатов обучающихс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явка на обучение педагогов и руководителей ОО на внебюджетной основе (ГБОУ ДПО НИРО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8:03:20Z</dcterms:created>
  <dc:creator>Владелец</dc:creator>
  <dc:description/>
  <dc:language>en-US</dc:language>
  <cp:lastModifiedBy>*</cp:lastModifiedBy>
  <dcterms:modified xsi:type="dcterms:W3CDTF">2019-12-09T07:31:41Z</dcterms:modified>
  <cp:revision>98</cp:revision>
  <dc:subject/>
  <dc:title>Программа методической работы</dc:title>
</cp:coreProperties>
</file>