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0D6-8E7F-46D3-8CBD-E2CC22C1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AD50-974D-4023-A36D-779CB1A5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7C29-FD0F-4C69-BC1A-93E82C83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EFB3-B552-44BC-844C-337619FC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F3F9-FE86-40C4-8B4B-F653862B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FBB4-222C-4264-ABA4-D9546532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4217-E8A7-4866-9A52-61A22613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78BD-2277-4C6E-B355-A411685C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41D5-A641-4F78-9C59-86BC1F59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1960-9B0F-479D-8051-CE3D977E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D214-0024-4B43-A887-9925CD7D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BBDE-0EC9-4AB2-BBDE-FBF28F33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8D1E-2B24-47AE-8641-A57B2A71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4CBA-ED25-45F7-9FBC-44C3B384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0D4E-FBE5-40CB-A2AD-A8B4246A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0603-96FB-407E-B729-B05AE097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5509-74BD-44D2-9AC7-5C65A5F2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9A7EC6-3C5B-4FAD-9CF5-ED1B2053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123DC-2E1A-496F-907B-94236825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3E789-2B94-4C2E-82DF-C5655324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B821E1-9F37-430E-93FE-A18C2AAD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29255-CD89-4219-90CC-FB98E726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ECA-ABD1-4240-898D-92BBB57A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07FDA9-4DA1-48BA-A769-EBA8E416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90D641-92DA-44DF-A66C-E62AB6F9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BAE86-E09C-46DD-9D1A-6EE55606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F3704-4F6E-45FB-A828-1A64CEC4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C9F841-E946-48B1-A1EA-FC46A49B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C60D8-FB99-478A-8B4F-26C2746D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29DF4-52E7-47F8-918A-67557562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E0598-4B1F-43E1-823F-F9021043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27B84-22C4-4B6C-B933-6ADBD103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39A6E-DE66-46E7-960E-0EF39009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B565-5944-45E8-A0B1-90E206D2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415BE-6B72-4EF2-8E82-0FEAEC68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22A58-8E32-405D-B758-469A2A5B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94D58-2C2C-414F-96AF-9F0BACCE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B1A42-ED98-4FCB-BD62-FA723284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D3133-1D07-405D-8340-E01E5B42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5D6D7-0D14-4493-AAC0-4FAE525A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A6E40-C283-4515-A138-AB5B4DFE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51556-14BA-48E2-96C1-26CA13C6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0FD8B-F392-4AFD-B608-C3957C3A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677BE1-27A6-4519-B7D7-33373F01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5647-CFC2-4623-9E03-5B5D6B49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278008-C2C5-4208-B60C-117D6BB2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597419-FC3A-45B4-8EA6-929E70B8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FDC58F-273A-4B42-9C2E-FF643E4A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1971DA-F582-4776-966B-753BC16A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F9FFC1-8A91-4574-B857-36259FC4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B7E7F3-0699-43C8-AAE5-CB462FE0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BBDD4D-7DED-424F-ABD8-03F4A9F1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8D7670-B7F2-4E5F-BB47-BA3614B9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2F6C12-DE8B-4D80-A02E-190FE11B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353798-31DB-417C-A4BC-5C6377DA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0BE5-913F-456A-B3CB-F6B580E1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16E3FC-59ED-4FCA-811A-90672DCF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EAC7C4-EF63-4FB9-973C-D2C79157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82FA01-021C-4523-AAFE-8EC01EE8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6412FA-F307-41EF-89A7-6CDC8C7E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06EDB6-D637-48C7-8957-0C5B6360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89D6A4-D782-4262-9E9D-7D2A2197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A64EC2-E181-4994-BAA1-97067954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6C0FE2-1BCA-4716-BC3E-1073EA9A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62CA56-8363-48A2-8B6E-AC65C6BB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C85594-5C87-4422-8459-FB60CC4B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80F0-B707-4C16-9F9F-97A9F1C4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BCB422-93E8-412B-9784-35B79655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3CB242-8F9E-4214-9975-B4C2F32E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B6F97D-BA05-4AB9-BEE6-3367E1C3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B2301B-1147-4A76-98FB-11BF8687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AFCE69-209A-499F-A2D4-8479FF49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08F686-D068-4532-B209-97C10EC4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CE72C2-FCB6-486B-B075-DC1F3F02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31EB9C-9986-44A3-BFAC-7B599BC0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07C50B-858D-4A6C-9005-FB15D1B9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C21A15-4FD8-4635-9445-D7E6ABD0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3F8-FBEC-428C-A9B9-AAB9F28E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751732-A3B6-4521-B3E1-FA34C536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09503F-08EB-413D-A794-65D5132F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A7510A-15D3-4EAA-80DA-A097D299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8F1A73-5349-4B8E-8D19-6F8DDFC4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143A9A-A8A2-421C-A840-FD717998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A4160-4AC6-4A9C-ACE9-8DC9A499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285F1-0726-489C-B319-150F3C6D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DA1CF-3EC5-451E-9BEE-C6329D4D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38388-4A7E-4B01-9E29-E4179D8C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755F6-C4E8-4A0A-9673-72094365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E6BA-6FBF-46F1-A350-2F688405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8A8D5-6187-4D74-B3B4-D15ECF54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64577-5BF5-41E1-A9A8-ADD1BB45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F23DB-9887-4654-8DE5-14B0E405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B7AFC-BD7C-4E2E-88CD-F2C8328A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FE184-B3E5-4375-BEA7-4A53907B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539E8-B5CF-438C-A7B0-28882F48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DB395-4C8F-4B26-843B-95FBFF36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EA73-021F-4477-AE10-067E33067AE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E9FC-32BC-45D7-98C0-BCE57DB2B7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99B9-6423-4AD2-89B3-248D0EEF3D4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344F-3A4E-4058-B8F0-02E13D5FAD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94F7-FF43-4464-93EA-461DC9F1BCC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9073-5C19-41F8-8F32-C8CA836F46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C5B8-2753-4CD5-AA78-49C52C03A46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4C42-8400-4385-BF99-B9CD7845234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planurokal@mail.ru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planurokas@mail.ru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planurokap@mail.ru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planurokaa@mail.ru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9973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КАФЕДРА НАЧАЛЬНОГО ОБРАЗОВАНИЯ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 ГБОУ ДПО 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«НИЖЕГОРОДСКИЙ ИНСТИТУТ РАЗВИТИЯ ОБРАЗОВАНИЯ»</a:t>
            </a:r>
            <a:br>
              <a:rPr sz="2900"/>
            </a:b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979640" y="5445000"/>
            <a:ext cx="64008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Требования к оформлению зачетной работы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Квалификационные курсы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НИРО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98989"/>
                </a:solidFill>
                <a:latin typeface="Arial"/>
              </a:rPr>
              <a:t>2017 - 20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ПРОЕКТ УРОКА</a:t>
            </a:r>
            <a:br>
              <a:rPr sz="2700"/>
            </a:b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СТРУКТУР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бный предмет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К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ма урока 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ип урока: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изучение нового материа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чи урока__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жидаемые результаты (предметные; метапредметные: познавательные, коммуникативные, регулятивные; личностны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рудова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ходный уровень знаний и умений обучаю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изучения данной те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апы урока и хронометраж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держание урока (в таблиц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оанализ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заполненный бланк ( в том числе и в электронном виде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хнические треб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улируется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полн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 точно в соответствии с рекомендациями авторов УМК, данными в рабочей программе и методических рекомендациях по предмет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ЗАДАЧИ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конкретных дидактических зада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полно и точно, так, чтобы можно было отследить их реализацию в ходе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ажно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ставятся только т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, над которыми реально ведется работ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 данном уроке и их реализацию возможно отследить в ходе уро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333360"/>
            <a:ext cx="74674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Задачи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уются комплексные задачи, связанные с формированием различных компонентов учебной деятельности и УУД, а дидактические задачи включаются в  них как составная ча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пример,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познавательных логических УУД анализа и обобщения на основе самостоятельного открытия учащимися нового вычислительного приема сложения с переходом через десяток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             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регулятивного УУД итогового самоконтроля на основе соотнесения составленного текста и его модел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НЕ допускается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задач урока в общей форме, например, «Развивать мышление учащихся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ОБОРУДОВ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8360" y="126792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глядные пособ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боры, инструмент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ые пособия (карточки, средства обратной связи и др.) прилагаются к конспекту и описывают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мпьютерная презентация (если есть в ней необходимость), прикладывается к проекту и др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ПЛАН И ХРОНОМЕТРАЖ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робный план, отража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ую и методическую структур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раткое содержание каждого этап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ся время на каждый этап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042920" y="4005360"/>
          <a:ext cx="7705800" cy="1981080"/>
        </p:xfrm>
        <a:graphic>
          <a:graphicData uri="http://schemas.openxmlformats.org/drawingml/2006/table">
            <a:tbl>
              <a:tblPr/>
              <a:tblGrid>
                <a:gridCol w="941400"/>
                <a:gridCol w="4316400"/>
                <a:gridCol w="2448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звание эта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ронометра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План урока с хронометраж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имеры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ткрытие способа вычисления площади прямоугольника с применением палетк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знакомление с новым вычислительным приемом вида 9+5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Самостоятельная работа учащихся по выявлению свойств и состояний вод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Times New Roman"/>
              </a:rPr>
              <a:t>ХОД УРО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0" y="981000"/>
          <a:ext cx="8785080" cy="5515200"/>
        </p:xfrm>
        <a:graphic>
          <a:graphicData uri="http://schemas.openxmlformats.org/drawingml/2006/table">
            <a:tbl>
              <a:tblPr/>
              <a:tblGrid>
                <a:gridCol w="1425600"/>
                <a:gridCol w="2174760"/>
                <a:gridCol w="2149560"/>
                <a:gridCol w="3035160"/>
              </a:tblGrid>
              <a:tr h="41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Этап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оретическое основание: формируемые УУД (группа УУД  и название конкретного УУД) , средства их формирования (формы, методы, приемы и т.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ОДЕРЖ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ход, всё содержание (скан.задания учебника, тетради) и организацию урок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 слова учителя и образцы рассуждений учени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ы работы и способы организации деятельности учащихся 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ена дифференциация и индивидуализация обучения  младших школьников (указаны упражнения, виды помощи для отдельных учеников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ОРЕТИЧЕСКОЕ ОБОСНОВ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процесс формирования УУД на каждом этапе данного уро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а построения сужд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что формируется (указыва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группа и конкретное уу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з этой группы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с помощью чего 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указываютс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конкретны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ие и/или методически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редства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БОУ ДП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жегородский институт развития 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федра начального образ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рсы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(сро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6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ТНАЯ РАБО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 урока по теме: «     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л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У № _____ _______________райо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О 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валификационная категория 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ж работы учителем начальных классов___л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.Новгор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8 г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WordArt 3"/>
          <p:cNvSpPr txBox="1"/>
          <p:nvPr/>
        </p:nvSpPr>
        <p:spPr>
          <a:xfrm rot="5400000">
            <a:off x="-2737080" y="3321000"/>
            <a:ext cx="6337440" cy="21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итульный лист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АМОАНАЛИЗ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оводится в соответствии со схемой анализа (бланк №1 и №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ритери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 - соответствует требованиям ФГОС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- частично соответствует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 –не соответствует (отражает требования к традиционному уроку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 этим критериям оценивает работу и преподаватель кафед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76640" y="1196640"/>
            <a:ext cx="1467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КА ПРОЕКТА УРОКА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НК №1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4400" y="25560"/>
          <a:ext cx="7510320" cy="7500600"/>
        </p:xfrm>
        <a:graphic>
          <a:graphicData uri="http://schemas.openxmlformats.org/drawingml/2006/table">
            <a:tbl>
              <a:tblPr/>
              <a:tblGrid>
                <a:gridCol w="450720"/>
                <a:gridCol w="6122880"/>
                <a:gridCol w="368280"/>
                <a:gridCol w="568440"/>
              </a:tblGrid>
              <a:tr h="420480"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\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араметр оцен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ложность  содержания, его соответствие возможностям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еализация компетентностного подх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ворческий или репродуктивный характер учебных заданий, их целесообразность и обоснова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азвивающая направленность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Логика построения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ы учебной  работы, их разнообразие и оптимальность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Методы обучения и методические приемы, целесообразность их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арактер используемой нагля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Целесообразность и функциональность используемых средств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уществление дифференцированного подхода к учащимся, учет их индивидуальных особен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мотивационного компонента учеб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становка учебных задач. Организация целеполаг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познаватель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регуля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коммуника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0240"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сего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43" name="Rectangle 2"/>
          <p:cNvSpPr/>
          <p:nvPr/>
        </p:nvSpPr>
        <p:spPr>
          <a:xfrm>
            <a:off x="7524720" y="2175480"/>
            <a:ext cx="1619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ая сумм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баллов (разработанный урок полностью соответствует ФГОС), минимальна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баллов (урок является традиционны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9679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СООТВЕТСТВИЯ СТРУКТУРНЫХ ЧАСТЕЙ ПРОЕКТА УРОКА                                                         БЛАНК №2</a:t>
            </a: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50920" y="620640"/>
          <a:ext cx="8640720" cy="4803840"/>
        </p:xfrm>
        <a:graphic>
          <a:graphicData uri="http://schemas.openxmlformats.org/drawingml/2006/table">
            <a:tbl>
              <a:tblPr/>
              <a:tblGrid>
                <a:gridCol w="1185840"/>
                <a:gridCol w="4678200"/>
                <a:gridCol w="1387440"/>
                <a:gridCol w="1389240"/>
              </a:tblGrid>
              <a:tr h="30816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труктурные части проекта и параметры их оце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Наличие общих сведений о проекте и соблюдение правил оформления зачет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561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пределение исходного уровня сформированности ЗУ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равильность формулировки темы и задач урока, наличие сведений об оборудовании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1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облюдение требований к плану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Качество теоретического обосн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декватность самоанализа урока (объективность выставления учителем баллов за свой конспек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</a:tbl>
          </a:graphicData>
        </a:graphic>
      </p:graphicFrame>
      <p:sp>
        <p:nvSpPr>
          <p:cNvPr id="446" name="Rectangle 1"/>
          <p:cNvSpPr/>
          <p:nvPr/>
        </p:nvSpPr>
        <p:spPr>
          <a:xfrm>
            <a:off x="250920" y="5479920"/>
            <a:ext cx="853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ценивания используется следующая шкала: 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ует требованиям, 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ично соответствует, 1 - минимально соответствует, 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ностью не соответствует. Максимальная сумм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 баллов, миним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бал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оценка проекта урока и структурных частей проекта урока в сумме может составить 63 балла максим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зачетной работы преподавателем НИР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31 бал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чтено с замеча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 - 63  -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ТЕХНИЧЕСКИЕ ТРЕБ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выполняется на листах формата Ф-4, вложенных в папк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New Rom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змер шрифта 14, межстрочный интервал 1,5; все поля 2 с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ы пронумерованы, на титульном листе номер не ставит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Century Schoolbook"/>
              </a:rPr>
              <a:t>ЛИТЕРАТУ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е дополнительную литературу (источники) , которые были использованы при подготовке проекта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ИТЕРАТУРА  (В ПОМОЩЬ УЧИТЕЛЮ):</a:t>
            </a:r>
            <a:br>
              <a:rPr sz="1400"/>
            </a:br>
            <a:r>
              <a:rPr b="0" lang="en-US" sz="1600" spc="-1" strike="noStrike">
                <a:solidFill>
                  <a:srgbClr val="575f6d"/>
                </a:solidFill>
                <a:latin typeface="Arial"/>
              </a:rPr>
              <a:t>СОВРЕМЕННЫЕ ТЕХНОЛОГИИ ПРОВЕДЕНИЯ УРОКА В НАЧАЛЬНОЙ ШКОЛЕ С УЧЕТОМ ТРЕБОВАНИЙ ФГОС» ПОД РЕД. ДЕМЕНЕВОЙ Н. Н., ИЗДАТЕЛЬСТВО «АРКТИ», 2014 Г. 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В пособии раскрываются особенности построения современного урока в начальной школе с учетом требования Федерального государственного стандарта. Сопоставлены характеристики традиционного урока, не соответствующего стандарту, и развивающего урока, соответствующего ФГОС НОО. Приводятся примеры из вариативных учебников для начальной школы по различным учебным предмета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Пособие адресовано учителям начальных классов, директорам и завучам общеобразовательных учреждений, студентам педагогических вузов и колледж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3" name="Picture 5" descr="image007"/>
          <p:cNvPicPr/>
          <p:nvPr/>
        </p:nvPicPr>
        <p:blipFill>
          <a:blip r:embed="rId1"/>
          <a:stretch/>
        </p:blipFill>
        <p:spPr>
          <a:xfrm>
            <a:off x="395280" y="1268280"/>
            <a:ext cx="3309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ЛЕНИН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l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Ленин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 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СОРМОВСКИЙ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s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рмов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ПРИОК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p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Приок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АВТОЗАВОД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a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втозавод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0" y="-243000"/>
            <a:ext cx="9901080" cy="691524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2916360" y="2205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ля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ормовского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3995640" y="1916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имер оформ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260280"/>
            <a:ext cx="45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643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В ПРИКРЕПЛЕННОМ  К ПИСЬМУ ФАЙЛЕ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2060280"/>
            <a:ext cx="82296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Проект урока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Бланки самоанализ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Дополнительный материал: презентация;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      </a:t>
            </a: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сканкопии страниц учебника; тетради и т.д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entury Schoolbook"/>
              </a:rPr>
              <a:t>ПРЕДМЕТЫ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бучение грамот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9:00:30Z</dcterms:created>
  <dc:creator>Александр</dc:creator>
  <dc:description/>
  <dc:language>en-US</dc:language>
  <cp:lastModifiedBy>*</cp:lastModifiedBy>
  <dcterms:modified xsi:type="dcterms:W3CDTF">2018-05-29T08:12:19Z</dcterms:modified>
  <cp:revision>147</cp:revision>
  <dc:subject/>
  <dc:title>Требования к итоговой работе</dc:title>
</cp:coreProperties>
</file>