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286-48A6-4838-A73A-359137D6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18B-8DB6-4594-9BF8-5BB04B1C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35F-2A13-4727-83CB-0B53BBE4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E69-11AC-4FEF-8A09-047933A3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6C1D-8AFB-4801-A37C-C7802F2C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B02E-C5B2-4570-BEEA-F1A95CE9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2163-EA92-4D37-A7AE-775272B9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A704-00CF-478A-919D-88E9D2D9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DA2D-8918-455B-B382-34F3624A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E356-63D1-4EBF-B089-C2A08FE8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E9CE-B3B3-4557-8BD2-4CCE8E06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9DA-643D-4516-BE7F-BAE46A7C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EF4E-42C9-4476-90FE-49A8F9EB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1EAD-787B-4B6E-90A1-E34E87BD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05F6-43A3-4D7D-9EA1-DD2011D0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BD36-A0A1-42F2-924B-DFE14C78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086E-260E-4884-B623-1EE43203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4CE-A421-489B-8E33-E127FBEA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5AA-BF37-4325-B0DD-2CD4752F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78C-98B2-4C70-86C8-B442ACFE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A88-0ACA-422E-8D07-1BEF2C57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6A8-6532-4C5B-8C1D-3B38D74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1DA-2CF2-49E4-9D54-003656EE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641-301D-49B7-BBB1-3543C852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7C5D-171E-4106-A9F5-7408F8E33A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579E-4035-43DC-A8FA-3CDC10FE56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лияние температуры среды обитания на жизнь животных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48320" y="541008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ученик 8 класса «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лоднокровные животные 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не имеют постоянной температуры тела)</a:t>
            </a:r>
            <a:br>
              <a:rPr sz="16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пособы реагирования на температуру среды и соответственно регулирования своей температуры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еться на солнце, чтобы оно освещало и нагревало как можно большую поверхность тела. Этим способом пользуется-кузнечики, саранч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смыкаюшиес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Кузнечик2"/>
          <p:cNvPicPr/>
          <p:nvPr/>
        </p:nvPicPr>
        <p:blipFill>
          <a:blip r:embed="rId1"/>
          <a:stretch/>
        </p:blipFill>
        <p:spPr>
          <a:xfrm>
            <a:off x="457200" y="17524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рулоголов"/>
          <p:cNvPicPr/>
          <p:nvPr/>
        </p:nvPicPr>
        <p:blipFill>
          <a:blip r:embed="rId2"/>
          <a:stretch/>
        </p:blipFill>
        <p:spPr>
          <a:xfrm>
            <a:off x="5334120" y="4314960"/>
            <a:ext cx="291456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ящерица1"/>
          <p:cNvPicPr/>
          <p:nvPr/>
        </p:nvPicPr>
        <p:blipFill>
          <a:blip r:embed="rId3"/>
          <a:stretch/>
        </p:blipFill>
        <p:spPr>
          <a:xfrm>
            <a:off x="457200" y="4343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52280"/>
            <a:ext cx="8610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окраски те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ром темная окраска способствует поглощению внешнего тепла, а по мере усиления солнечного тепла она бледнеет. Это  используют пустынные игуаны. Черепахи выставляют из -под панциря свои темные лапы, улавливая теп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5" descr="игуана2"/>
          <p:cNvPicPr/>
          <p:nvPr/>
        </p:nvPicPr>
        <p:blipFill>
          <a:blip r:embed="rId1"/>
          <a:stretch/>
        </p:blipFill>
        <p:spPr>
          <a:xfrm>
            <a:off x="4724280" y="32767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черепаха1"/>
          <p:cNvPicPr/>
          <p:nvPr/>
        </p:nvPicPr>
        <p:blipFill>
          <a:blip r:embed="rId2"/>
          <a:stretch/>
        </p:blipFill>
        <p:spPr>
          <a:xfrm>
            <a:off x="533520" y="342900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е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шечная работа способствует разогреванию тела. При  понижении температуры увеличивается двигательная актив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Мокрица1"/>
          <p:cNvPicPr/>
          <p:nvPr/>
        </p:nvPicPr>
        <p:blipFill>
          <a:blip r:embed="rId1"/>
          <a:stretch/>
        </p:blipFill>
        <p:spPr>
          <a:xfrm>
            <a:off x="4800600" y="3505320"/>
            <a:ext cx="4048200" cy="24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бабочка бражница1"/>
          <p:cNvPicPr/>
          <p:nvPr/>
        </p:nvPicPr>
        <p:blipFill>
          <a:blip r:embed="rId2"/>
          <a:stretch/>
        </p:blipFill>
        <p:spPr>
          <a:xfrm>
            <a:off x="304920" y="35053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цепенение (реакция  на изменения температуры среды  водных  животных)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90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аси закапываются            Осетры лежат неподвиж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л, температура их тела          близ дна, их тело покры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скается.                                  вается толстым сло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изи,которая изолиру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низких температ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карась2"/>
          <p:cNvPicPr/>
          <p:nvPr/>
        </p:nvPicPr>
        <p:blipFill>
          <a:blip r:embed="rId1"/>
          <a:stretch/>
        </p:blipFill>
        <p:spPr>
          <a:xfrm>
            <a:off x="533520" y="1219320"/>
            <a:ext cx="353844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сетра"/>
          <p:cNvPicPr/>
          <p:nvPr/>
        </p:nvPicPr>
        <p:blipFill>
          <a:blip r:embed="rId2"/>
          <a:stretch/>
        </p:blipFill>
        <p:spPr>
          <a:xfrm>
            <a:off x="4648320" y="1219320"/>
            <a:ext cx="3733560" cy="29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плокровные животные</a:t>
            </a:r>
            <a:br>
              <a:rPr sz="40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имеют постоянную температуру тела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особы приспособления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рганизма к изменениям  температуры среды обитани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стота волосяного покрова или перьевого покр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ичие подкожного жи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ота дыхательных движ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7680" y="-6696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ень теплый покров имеют: овцебык,северный олень,  белый медведь,  королевский пингв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0600" y="533160"/>
            <a:ext cx="403848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риближении зимы количество пуховых перьев на теле чижа увеличивается примерно на одну тысяч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чиж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ингвин королевский"/>
          <p:cNvPicPr/>
          <p:nvPr/>
        </p:nvPicPr>
        <p:blipFill>
          <a:blip r:embed="rId2"/>
          <a:stretch/>
        </p:blipFill>
        <p:spPr>
          <a:xfrm>
            <a:off x="152280" y="3581280"/>
            <a:ext cx="289584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Северный олень"/>
          <p:cNvPicPr/>
          <p:nvPr/>
        </p:nvPicPr>
        <p:blipFill>
          <a:blip r:embed="rId3"/>
          <a:stretch/>
        </p:blipFill>
        <p:spPr>
          <a:xfrm>
            <a:off x="3276720" y="3581280"/>
            <a:ext cx="2504880" cy="32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белый медведь"/>
          <p:cNvPicPr/>
          <p:nvPr/>
        </p:nvPicPr>
        <p:blipFill>
          <a:blip r:embed="rId4"/>
          <a:stretch/>
        </p:blipFill>
        <p:spPr>
          <a:xfrm>
            <a:off x="6248520" y="3581280"/>
            <a:ext cx="24382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ведение животных при температурных изменения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315200" cy="13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езонном понижении температуры теплокровные животные впадают в спяч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Медведь в спячке1"/>
          <p:cNvPicPr/>
          <p:nvPr/>
        </p:nvPicPr>
        <p:blipFill>
          <a:blip r:embed="rId1"/>
          <a:stretch/>
        </p:blipFill>
        <p:spPr>
          <a:xfrm>
            <a:off x="1371600" y="2514600"/>
            <a:ext cx="6705720" cy="421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ветреную погоду  пингвины сбиваются в плотные группы и внутри их укрывают детенышей. Такой способ поведения позволяет удерживать  внутри группы более высокий уровень температуры и спасать себя и свое потомство от ледяного ве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penguins_03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4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