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jpeg" ContentType="image/jpeg"/>
  <Override PartName="/ppt/media/image3.jpeg" ContentType="image/jpeg"/>
  <Override PartName="/ppt/media/image2.png" ContentType="image/png"/>
  <Override PartName="/ppt/media/image4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A876F-F172-4DB8-9514-7A298E56A0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A3E7-6975-46DE-898B-A7D5FA539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43344-BD13-436F-8175-62AF71950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E0D-DD9A-4332-8593-8CFEFF2676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37155-D149-4012-8A57-373AF866A3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F5BE3-ACF1-4219-8AA1-E032ED21E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3107CD-AF03-47E6-B339-3E00EF7267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68A9F-1D66-4FDE-9582-66FE5905E9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183C8-60FE-4164-9EE9-2BEBBE64B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39B3D-EA31-4638-ACEC-E2B1765BC3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E7984-AC78-45BE-B16A-61E8CB1E2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9919-713D-441A-A5AC-19C93AEBF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A6960-45BF-4668-8FB0-7B06B9744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4A4D4-0C91-4166-B998-44CB1504D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FDD24B-DA14-4CB5-AD74-2A207658C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AB800-EDDA-4E22-9176-5330E22DE0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9360"/>
            <a:ext cx="264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50D5FB-760D-4B0D-B099-56C57F557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C2AC-B6F6-4AB4-A623-40FA0B1B16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18F5-4394-487C-849F-DA24E700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5838-B2CB-4507-9146-A3DEF342E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36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29B0C-EF88-48EA-A24D-C759F554C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9897E-D481-45F8-96DE-BC8B72A4A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936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9A866-7497-4806-B42E-4055FF694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9360"/>
            <a:ext cx="8229600" cy="224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3ED3D-68FD-4235-A9A9-A6C477B09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12E8A-AD76-4900-B090-EF0F7375E4D3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7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47560" indent="-411120">
              <a:spcBef>
                <a:spcPts val="700"/>
              </a:spcBef>
              <a:buClr>
                <a:srgbClr val="f9f9f9"/>
              </a:buClr>
              <a:buSzPct val="65000"/>
              <a:buFont typeface="Wingdings 2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868320" indent="-282600">
              <a:spcBef>
                <a:spcPts val="700"/>
              </a:spcBef>
              <a:buClr>
                <a:srgbClr val="ffffff"/>
              </a:buClr>
              <a:buSzPct val="80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3640" indent="-22860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3" marL="1352520" indent="-182520">
              <a:spcBef>
                <a:spcPts val="700"/>
              </a:spcBef>
              <a:buClr>
                <a:srgbClr val="ffffff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4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5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6" marL="1544760" indent="-182520">
              <a:spcBef>
                <a:spcPts val="700"/>
              </a:spcBef>
              <a:buClr>
                <a:srgbClr val="fffff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41664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41664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924320" y="641664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bcbcbc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BC951-FA3D-428F-87C0-2580ECD4BC77}" type="slidenum">
              <a:rPr b="0" lang="ru-RU" sz="1200" spc="-1" strike="noStrike">
                <a:solidFill>
                  <a:srgbClr val="bcbcb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Book Antiqu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3" descr=""/>
          <p:cNvPicPr/>
          <p:nvPr/>
        </p:nvPicPr>
        <p:blipFill>
          <a:blip r:embed="rId1"/>
          <a:stretch/>
        </p:blipFill>
        <p:spPr>
          <a:xfrm>
            <a:off x="420840" y="1066680"/>
            <a:ext cx="8229600" cy="266400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071440" y="3714840"/>
            <a:ext cx="7072200" cy="192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Выполнял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ученица 7 «А» класса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Поспелова Анна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Прямоугольник 1"/>
          <p:cNvSpPr/>
          <p:nvPr/>
        </p:nvSpPr>
        <p:spPr>
          <a:xfrm>
            <a:off x="214200" y="28584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6" name="Прямоугольник 2"/>
          <p:cNvSpPr/>
          <p:nvPr/>
        </p:nvSpPr>
        <p:spPr>
          <a:xfrm>
            <a:off x="214200" y="1071720"/>
            <a:ext cx="87156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Речной окунь - один из самых распространенных видов рыб в Европе и Азии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битает окунь в водоемах разного типа: в реках, озерах, проточных прудах, водохранилищах и т. п. Крупные окуни живут на глубоких местах, мелкие по заводям, заливам среди зарослей водной растительности. Плодовитость до 200 тысяч икринок. Икра собрана в студенистые ленты, где лежит кучками по 3-5 штук. Из оплодотворенной икры спустя 10-15 дней появляются личинки, которые питаются мелкими животными, быстро растут и превращаются в мальков. Мелкие окуньки питаются различными водными насекомыми, их личинками. 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"/>
          <p:cNvSpPr/>
          <p:nvPr/>
        </p:nvSpPr>
        <p:spPr>
          <a:xfrm>
            <a:off x="285840" y="214200"/>
            <a:ext cx="7929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РЕЧНОЙ ОКУНЬ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Perca fluviatilis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8" name="Рисунок 2" descr="окунь.jpeg"/>
          <p:cNvPicPr/>
          <p:nvPr/>
        </p:nvPicPr>
        <p:blipFill>
          <a:blip r:embed="rId1"/>
          <a:stretch/>
        </p:blipFill>
        <p:spPr>
          <a:xfrm>
            <a:off x="500040" y="1000080"/>
            <a:ext cx="790740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Прямоугольник 1"/>
          <p:cNvSpPr/>
          <p:nvPr/>
        </p:nvSpPr>
        <p:spPr>
          <a:xfrm>
            <a:off x="21420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0" name="Прямоугольник 3"/>
          <p:cNvSpPr/>
          <p:nvPr/>
        </p:nvSpPr>
        <p:spPr>
          <a:xfrm>
            <a:off x="285840" y="1071720"/>
            <a:ext cx="85723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живет в водоемах смешанных и широколиственных лесов. Здесь она активна днем и вечером. В водоемах эта лягушка плавает с помощью длинных задних конечностей, пальцы которых снабжены плавательными перепонками. Передвижение по суше осуществляется с помощью прыжков, причем главную роль опять-таки играют задние конечности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1" name="Прямоугольник 4"/>
          <p:cNvSpPr/>
          <p:nvPr/>
        </p:nvSpPr>
        <p:spPr>
          <a:xfrm>
            <a:off x="357120" y="3765600"/>
            <a:ext cx="83581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удовая лягушка - хищник, она питается подвижными насекомыми, которых добывает своеобразно: с помощью широкого языка, покрытого клейкой слизью. Как только мимо лягушки пролетает насекомое, она мгновенно выкидывает вперед язык, к которому и прилипает добыча.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"/>
          <p:cNvSpPr/>
          <p:nvPr/>
        </p:nvSpPr>
        <p:spPr>
          <a:xfrm>
            <a:off x="214200" y="214200"/>
            <a:ext cx="73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РУДОВАЯ ЛЯГУШ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Runa esculent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3" name="Рисунок 2" descr="лягуха.jpg"/>
          <p:cNvPicPr/>
          <p:nvPr/>
        </p:nvPicPr>
        <p:blipFill>
          <a:blip r:embed="rId1"/>
          <a:stretch/>
        </p:blipFill>
        <p:spPr>
          <a:xfrm>
            <a:off x="258840" y="1000080"/>
            <a:ext cx="8599320" cy="562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Прямоугольник 1"/>
          <p:cNvSpPr/>
          <p:nvPr/>
        </p:nvSpPr>
        <p:spPr>
          <a:xfrm>
            <a:off x="144360" y="214200"/>
            <a:ext cx="8429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15" name="Прямоугольник 2"/>
          <p:cNvSpPr/>
          <p:nvPr/>
        </p:nvSpPr>
        <p:spPr>
          <a:xfrm>
            <a:off x="171360" y="1484280"/>
            <a:ext cx="864396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Живет большой водолюб в стоячих водоемах, заросших водными растениями. Тело этого жука хорошо обтекаемо, что облегчает ему передвижение в воде. Задние ноги плавательные, длинные, с лапками, на которых имеются волоски. Попеременно переставляя их, водолюб как бы «шагает» в воде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ышит водолюб атмосферным воздухом: он то и дело поднимается к поверхности воды, приближая к ней голову. Однако из воды ее не высовывает, а «снабжается» воздухом при помощи усиков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Основная пища водолюба - растения: мягкие листочки и зеленые водоросли. Он также поедает трупы мелких животных; нападает и на ослабевших мальков рыб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Прямоугольник 1"/>
          <p:cNvSpPr/>
          <p:nvPr/>
        </p:nvSpPr>
        <p:spPr>
          <a:xfrm>
            <a:off x="214200" y="214200"/>
            <a:ext cx="8358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ОЛЮБ БОЛЬШОЙ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ydrous aterrim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7" name="Рисунок 2" descr="водолюб большой.jpg"/>
          <p:cNvPicPr/>
          <p:nvPr/>
        </p:nvPicPr>
        <p:blipFill>
          <a:blip r:embed="rId1"/>
          <a:stretch/>
        </p:blipFill>
        <p:spPr>
          <a:xfrm>
            <a:off x="214200" y="857160"/>
            <a:ext cx="86439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Прямоугольник 1"/>
          <p:cNvSpPr/>
          <p:nvPr/>
        </p:nvSpPr>
        <p:spPr>
          <a:xfrm>
            <a:off x="285840" y="214200"/>
            <a:ext cx="8143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19" name="Рисунок 4" descr="Плавунец окаймленный"/>
          <p:cNvPicPr/>
          <p:nvPr/>
        </p:nvPicPr>
        <p:blipFill>
          <a:blip r:embed="rId1"/>
          <a:stretch/>
        </p:blipFill>
        <p:spPr>
          <a:xfrm>
            <a:off x="6286680" y="928800"/>
            <a:ext cx="2644560" cy="267156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1" name="Прямоугольник 5"/>
          <p:cNvSpPr/>
          <p:nvPr/>
        </p:nvSpPr>
        <p:spPr>
          <a:xfrm>
            <a:off x="214200" y="1341360"/>
            <a:ext cx="607248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лавунец окаймленный живет в прудах, небольших озерках, в тихих затонах и даже в канавах на торфяных болотах. Он хорошо приспособлен к жизни в воде -обтекаемое тело способствует плаванию. Плавунец дышит атмосферным воздухом, поэтому ему приходится периодически подниматься к поверхности воды и выставлять наружу конец брюшка. Свежий воздух поступает в трахеи через две последние пары брюшных дыхалец, а отработанный воздух выходит наружу через первые четыре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Прямоугольник 1"/>
          <p:cNvSpPr/>
          <p:nvPr/>
        </p:nvSpPr>
        <p:spPr>
          <a:xfrm>
            <a:off x="214200" y="285840"/>
            <a:ext cx="78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ЛАВУНЕЦ ОКАЙМЛЕННЫЙ 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Dytiscus marginali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3" name="Рисунок 2" descr="плавунец.jpg"/>
          <p:cNvPicPr/>
          <p:nvPr/>
        </p:nvPicPr>
        <p:blipFill>
          <a:blip r:embed="rId1"/>
          <a:stretch/>
        </p:blipFill>
        <p:spPr>
          <a:xfrm>
            <a:off x="357120" y="1096920"/>
            <a:ext cx="7929720" cy="576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1"/>
          <p:cNvSpPr/>
          <p:nvPr/>
        </p:nvSpPr>
        <p:spPr>
          <a:xfrm>
            <a:off x="215280" y="214200"/>
            <a:ext cx="406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25" name="Прямоугольник 2"/>
          <p:cNvSpPr/>
          <p:nvPr/>
        </p:nvSpPr>
        <p:spPr>
          <a:xfrm>
            <a:off x="285840" y="714240"/>
            <a:ext cx="864396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Местные жители отправляются на рыбалку, прихватывая с собой... мотыги. Они отыскивают на обсохшем дне холмики, напоминающие кротовины, и выкапывают из каждого глиняную капсулу с рыбой, сложившейся вдвое, подобно заколке для волос.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Рыба эта называется протоптерус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Protopterus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 и относится к подклассу двоякодышащих рыб (</a:t>
            </a:r>
            <a:r>
              <a:rPr b="0" i="1" lang="ru-RU" sz="2000" spc="-1" strike="noStrike">
                <a:solidFill>
                  <a:srgbClr val="ffffff"/>
                </a:solidFill>
                <a:latin typeface="Times New Roman"/>
              </a:rPr>
              <a:t>Dipnoi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</a:rPr>
              <a:t>). Помимо обычных для рыб жабр у представителей этой группы имеются еще и одно или два легких – видоизмененный плавательный пузырь, через оплетенные капиллярами стенки которого происходит газообмен. Атмосферный воздух для дыхания рыбы захватывают ртом, поднимаясь к поверхности. Двоякодышащие рыбы – очень древняя группа. Их остатки находят в отложениях девонского периода палеозойской эры. Живет эта рыба в реках с медленным течением, сильно заросших водной и надводной растительностью. Каждые 40 – 50 мин рогозуб всплывает и с шумом выдыхает воздух из легкого, издавая при этом характерный стонуще-хрюкающий звук, который разносится далеко по окрестностям. Сделав вдох, рыба снова опускается на дно.</a:t>
            </a:r>
            <a:endParaRPr b="0" lang="en-US" sz="20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Прямоугольник 1"/>
          <p:cNvSpPr/>
          <p:nvPr/>
        </p:nvSpPr>
        <p:spPr>
          <a:xfrm>
            <a:off x="214200" y="214200"/>
            <a:ext cx="735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ДВОЯКОДЫШАЩАЯ РЫБ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27" name="Рисунок 2" descr="двоякодышащая рыба.jpg"/>
          <p:cNvPicPr/>
          <p:nvPr/>
        </p:nvPicPr>
        <p:blipFill>
          <a:blip r:embed="rId1"/>
          <a:stretch/>
        </p:blipFill>
        <p:spPr>
          <a:xfrm>
            <a:off x="500040" y="749160"/>
            <a:ext cx="8143920" cy="610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1"/>
          <p:cNvSpPr/>
          <p:nvPr/>
        </p:nvSpPr>
        <p:spPr>
          <a:xfrm>
            <a:off x="285840" y="214200"/>
            <a:ext cx="8429400" cy="564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Ложноконская пиявка обитает в водоемах со стоячей или медленно текущей водой в равнинных реках, озерах прудах, иногда даже в лужах. Она встречается и в прибрежных зонах озер. Передвигается в водоеме разными способами может ползать и плавать. Эта пиявка - прожорливый хищник питается разнообразными водными животными .  Для человека и крупных животных ложноконские пиявки не опасны так как они не могут прокусить кожу 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Прямоугольник 3"/>
          <p:cNvSpPr/>
          <p:nvPr/>
        </p:nvSpPr>
        <p:spPr>
          <a:xfrm>
            <a:off x="142920" y="214200"/>
            <a:ext cx="7215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ИЯВКА ЛОЖНОКОНСКАЯ БОЛЬШАЯ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Haemopis sanguisuga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6" name="Рисунок 4" descr="пиявка.jpeg"/>
          <p:cNvPicPr/>
          <p:nvPr/>
        </p:nvPicPr>
        <p:blipFill>
          <a:blip r:embed="rId1"/>
          <a:stretch/>
        </p:blipFill>
        <p:spPr>
          <a:xfrm>
            <a:off x="285840" y="1643040"/>
            <a:ext cx="8858160" cy="501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оугольник 1"/>
          <p:cNvSpPr/>
          <p:nvPr/>
        </p:nvSpPr>
        <p:spPr>
          <a:xfrm>
            <a:off x="214200" y="214200"/>
            <a:ext cx="8715600" cy="563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Узкопалый речной рак обитает в реках и озерах с чистой водой, богатой минеральными солями, на илистом дне. Здесь под корягами, камнями или корнями подводных растений он роет норки, в которых проводит светлое время суток. Он обычно активен в сумерках и ночью, но иногда бывает подвижным и днем. </a:t>
            </a:r>
            <a:br>
              <a:rPr sz="3200"/>
            </a:br>
            <a:endParaRPr b="0" lang="en-US" sz="32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Прямоугольник 1"/>
          <p:cNvSpPr/>
          <p:nvPr/>
        </p:nvSpPr>
        <p:spPr>
          <a:xfrm>
            <a:off x="285840" y="214200"/>
            <a:ext cx="7143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УЗКОПАЛЫЙ РЕЧНОЙ РАК 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stacus leptodactylus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89" name="Рисунок 2" descr="рак.jpeg"/>
          <p:cNvPicPr/>
          <p:nvPr/>
        </p:nvPicPr>
        <p:blipFill>
          <a:blip r:embed="rId1"/>
          <a:stretch/>
        </p:blipFill>
        <p:spPr>
          <a:xfrm>
            <a:off x="857160" y="928800"/>
            <a:ext cx="7572600" cy="568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Рисунок 2" descr="паук-серебрянка"/>
          <p:cNvPicPr/>
          <p:nvPr/>
        </p:nvPicPr>
        <p:blipFill>
          <a:blip r:embed="rId1"/>
          <a:stretch/>
        </p:blipFill>
        <p:spPr>
          <a:xfrm>
            <a:off x="7358040" y="1143000"/>
            <a:ext cx="1500120" cy="200016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2"/>
          <p:cNvSpPr/>
          <p:nvPr/>
        </p:nvSpPr>
        <p:spPr>
          <a:xfrm>
            <a:off x="1800" y="558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2" name="Прямоугольник 6"/>
          <p:cNvSpPr/>
          <p:nvPr/>
        </p:nvSpPr>
        <p:spPr>
          <a:xfrm>
            <a:off x="214200" y="214200"/>
            <a:ext cx="835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3" name="Прямоугольник 7"/>
          <p:cNvSpPr/>
          <p:nvPr/>
        </p:nvSpPr>
        <p:spPr>
          <a:xfrm>
            <a:off x="285840" y="1000080"/>
            <a:ext cx="7000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аук-серебрянка - водяной паук. Он обитает в стоячих или медленно текущих водоемах, богатых растительностью. Для этого паука характерно то, что он устраивает своеобразное жилище под водой в виде паутинного колокола. Время от времени он поднимается к поверхности водоема, выставляет из воды кончик брюшка и обновляет запас воздуха, необходимого для дыхания.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При погружении в воду этот паук становится как бы серебряным, так как между волосками, покрывающими его брюшко, задерживается воздух, образуя воздушную прослойку. Она-то и обеспечивает ему возможность дышать под водой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1"/>
          <p:cNvSpPr/>
          <p:nvPr/>
        </p:nvSpPr>
        <p:spPr>
          <a:xfrm>
            <a:off x="214200" y="285840"/>
            <a:ext cx="792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ПАУК-СЕРЕБРЯНКА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Argyroneta aquatic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95" name="Рисунок 2" descr="паук.jpg"/>
          <p:cNvPicPr/>
          <p:nvPr/>
        </p:nvPicPr>
        <p:blipFill>
          <a:blip r:embed="rId1"/>
          <a:stretch/>
        </p:blipFill>
        <p:spPr>
          <a:xfrm>
            <a:off x="642960" y="928800"/>
            <a:ext cx="7620120" cy="571500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3"/>
          <p:cNvSpPr/>
          <p:nvPr/>
        </p:nvSpPr>
        <p:spPr>
          <a:xfrm>
            <a:off x="1800" y="513000"/>
            <a:ext cx="18072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br>
              <a:rPr sz="1100"/>
            </a:br>
            <a:endParaRPr b="0" lang="en-US" sz="11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Прямоугольник 1"/>
          <p:cNvSpPr/>
          <p:nvPr/>
        </p:nvSpPr>
        <p:spPr>
          <a:xfrm>
            <a:off x="2286000" y="75096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8" name="Прямоугольник 2"/>
          <p:cNvSpPr/>
          <p:nvPr/>
        </p:nvSpPr>
        <p:spPr>
          <a:xfrm>
            <a:off x="285840" y="214200"/>
            <a:ext cx="8429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99" name="Rectangle 2"/>
          <p:cNvSpPr/>
          <p:nvPr/>
        </p:nvSpPr>
        <p:spPr>
          <a:xfrm>
            <a:off x="1800" y="475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0" name="Рисунок 6" descr="водяной скорпион"/>
          <p:cNvPicPr/>
          <p:nvPr/>
        </p:nvPicPr>
        <p:blipFill>
          <a:blip r:embed="rId1"/>
          <a:stretch/>
        </p:blipFill>
        <p:spPr>
          <a:xfrm>
            <a:off x="7143840" y="1071720"/>
            <a:ext cx="1785960" cy="223200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3"/>
          <p:cNvSpPr/>
          <p:nvPr/>
        </p:nvSpPr>
        <p:spPr>
          <a:xfrm>
            <a:off x="1800" y="504720"/>
            <a:ext cx="180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Book Antiqua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357120" y="1000080"/>
            <a:ext cx="685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</a:rPr>
              <a:t>Водяной скорпион живет на дне прудов, а также рек с медленным течением, заросших водной растительностью. Плавать этот клоп не умеет. Он либо сидит на растениях, либо ползает между ними. Водяной скорпион -хищник, он подкарауливает мелких животных. Время от времени водяной скорпион выставляет наружу довольно длинную трубочку, которой заканчивается его брюшко. Это - дыхательная трубочка. Она состоит из двух примыкающих друг к другу желобков и проводит атмосферный воздух под крылья, а оттуда в дыхальца брюшка.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Book Antiqu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1"/>
          <p:cNvSpPr/>
          <p:nvPr/>
        </p:nvSpPr>
        <p:spPr>
          <a:xfrm>
            <a:off x="214200" y="214200"/>
            <a:ext cx="7786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ОДЯНОЙ СКОРПИОН</a:t>
            </a: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Nepa cinerea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Book Antiqua"/>
            </a:endParaRPr>
          </a:p>
        </p:txBody>
      </p:sp>
      <p:pic>
        <p:nvPicPr>
          <p:cNvPr id="104" name="Рисунок 2" descr="скорпион.jpg"/>
          <p:cNvPicPr/>
          <p:nvPr/>
        </p:nvPicPr>
        <p:blipFill>
          <a:blip r:embed="rId1"/>
          <a:stretch/>
        </p:blipFill>
        <p:spPr>
          <a:xfrm>
            <a:off x="857160" y="860400"/>
            <a:ext cx="7505640" cy="599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User</cp:lastModifiedBy>
  <dcterms:modified xsi:type="dcterms:W3CDTF">2013-07-04T09:20:42Z</dcterms:modified>
  <cp:revision>11</cp:revision>
  <dc:subject/>
  <dc:title>Презентация «Животные пресных водоемов»</dc:title>
</cp:coreProperties>
</file>