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10.jpeg" ContentType="image/jpeg"/>
  <Override PartName="/ppt/media/image5.png" ContentType="image/png"/>
  <Override PartName="/ppt/media/drumroll.wav" ContentType="audio/x-wav"/>
  <Override PartName="/ppt/media/image7.png" ContentType="image/png"/>
  <Override PartName="/ppt/media/image1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3.jpeg" ContentType="image/jpe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applause.wav" ContentType="audio/x-wav"/>
  <Override PartName="/ppt/media/image6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50DA0-8CB3-4702-9D52-3EFB25543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44B10-D344-4690-B166-8F3418C0E1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536B5-F822-4CB2-B594-009357B77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D3EC-F3F6-4F25-A46A-74D0B33FCC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0B6A10-96C1-4F0C-81CB-F0459F6FBC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F5450-3A03-46D1-BBDD-77B3CF96F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E1468-7F85-432E-94FA-7745E2C40B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2F4E3-2842-4FD0-BB32-4AF5596D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86501-0714-4A75-A03B-E5DCBD365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77A2C5-A1C2-41DF-AC6C-F968A765FF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31921-B84D-4AA7-9205-CA1E9A9C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72E9C-D1AE-4149-83E1-B53B9B275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9419F4-2418-4577-8420-2CA745E0A2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A066D-D6D9-40E1-BE0E-2476947C7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75281D-8D4F-4A05-A44B-C55086986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87609-5DD4-4E03-8072-5E39A14F5C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B2C186-AAC3-4E00-9B5B-EE9A3E03D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56FE02-4D13-4D64-9CF4-E8BC214CF1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B09C77-1F8F-42E5-A817-D5BB4E48A7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11CCD7-347D-40AA-9072-FA2D9874F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89623F-53A7-4FD4-8159-2740E02EB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CD2785-8AD8-470B-9D9D-BF5BDDAEDB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355F-D60B-420C-8596-D6131DC69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CF95A8-D760-42CF-BEC8-A04A298B6C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82DCEB-5CD0-4410-AE04-801274C97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F4DF3F4-56F9-4035-9719-61C231C26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3D8D1-7B60-4638-838A-D0A5E1ECD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7BA716-BAB1-49CA-8A43-50D03C627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E44CCF-97DB-4B32-B132-7AED53CC72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4930F61-EC13-4045-AE4F-8F257A073F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B71C33-A408-4CB7-BD58-8510BD91E0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438473-37B1-4294-B08F-8C9F5B23B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3F6200-1F32-44BD-BCB6-30C27D31B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A923C-0A87-489A-AD05-2BBC54939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30FBBB-22AD-42A8-95B6-CF59A76B6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BDFD59-4766-4B6A-ADF4-F267EDED9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E41004-F800-4632-B062-427BE53E7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6DB005-7606-4563-ADA5-D2F9C09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52FD26-6C57-4B18-AF21-E705C2500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56A08F2-55D1-4CE9-B7D4-E45C02D65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D1F7E8-6E2A-4B98-964E-DFD267F4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0A6D919-80FA-4C17-8A97-734D6B8EAD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E1943C6-4A5B-49B7-9212-1DCC1BAE9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5CB6A-F2F1-4151-BDB0-5713997F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7D030-33F5-4682-ADB3-C91E95F47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58D14-E6C7-4DAC-AC46-1157B58D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76692-E3E3-448C-A8F1-14394BEB4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C1F88-29A9-451F-8DCA-F5B0396AC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BB49B8-CB7D-49AF-B096-9E241A7FC4F4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5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5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D9BB6-B310-4AEB-8B9D-387D00E2606C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олилиния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01" name="Полилиния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102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Полилиния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Полилиния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06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Полилиния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FB27B-2C71-4C1D-A9FC-C8C38DBE5BA0}" type="slidenum">
              <a:rPr b="0" lang="ru-RU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2" name="Полилиния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3" name="Полилиния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B01B8-EF57-4DB2-AA2A-1A8B04BA19AD}" type="slidenum">
              <a:rPr b="0" lang="ru-RU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audio" Target="../media/drumroll.wav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8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2" descr="H:\Documents and Settings\Даша.8C16D62EEB58464\Рабочий стол\05[1].jpg"/>
          <p:cNvPicPr/>
          <p:nvPr/>
        </p:nvPicPr>
        <p:blipFill>
          <a:blip r:embed="rId1"/>
          <a:stretch/>
        </p:blipFill>
        <p:spPr>
          <a:xfrm>
            <a:off x="285840" y="285840"/>
            <a:ext cx="8643960" cy="6367320"/>
          </a:xfrm>
          <a:prstGeom prst="rect">
            <a:avLst/>
          </a:prstGeom>
          <a:ln w="0">
            <a:noFill/>
          </a:ln>
        </p:spPr>
      </p:pic>
      <p:pic>
        <p:nvPicPr>
          <p:cNvPr id="196" name="Заголовок 1" descr=""/>
          <p:cNvPicPr/>
          <p:nvPr/>
        </p:nvPicPr>
        <p:blipFill>
          <a:blip r:embed="rId2"/>
          <a:stretch/>
        </p:blipFill>
        <p:spPr>
          <a:xfrm>
            <a:off x="639720" y="171360"/>
            <a:ext cx="7924680" cy="2438640"/>
          </a:xfrm>
          <a:prstGeom prst="rect">
            <a:avLst/>
          </a:prstGeom>
          <a:ln w="0">
            <a:noFill/>
          </a:ln>
        </p:spPr>
      </p:pic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1071360" y="492876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59aaf2"/>
                </a:solidFill>
                <a:latin typeface="Constantia"/>
              </a:rPr>
              <a:t>Батраков.Д 7 «а»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drumroll.wav"/>
      </p:stSnd>
    </p:sndAc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-360" y="571320"/>
            <a:ext cx="4143240" cy="28573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Все морские живые организмы так или иначе связаны друг с другом. В морях и океанах обитает множество разнообразных животных от простейших до млекопитающих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0" name="Picture 2" descr="http://im3-tub.yandex.net/i?id=69855835-02"/>
          <p:cNvPicPr/>
          <p:nvPr/>
        </p:nvPicPr>
        <p:blipFill>
          <a:blip r:embed="rId2"/>
          <a:stretch/>
        </p:blipFill>
        <p:spPr>
          <a:xfrm>
            <a:off x="4714920" y="0"/>
            <a:ext cx="4429080" cy="42148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im0-tub.yandex.net/i?id=39275352-12"/>
          <p:cNvPicPr/>
          <p:nvPr/>
        </p:nvPicPr>
        <p:blipFill>
          <a:blip r:embed="rId3"/>
          <a:stretch/>
        </p:blipFill>
        <p:spPr>
          <a:xfrm>
            <a:off x="357120" y="3143160"/>
            <a:ext cx="4286160" cy="371484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2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3" name="PlaceHolder 1"/>
          <p:cNvSpPr>
            <a:spLocks noGrp="1"/>
          </p:cNvSpPr>
          <p:nvPr>
            <p:ph/>
          </p:nvPr>
        </p:nvSpPr>
        <p:spPr>
          <a:xfrm>
            <a:off x="428760" y="0"/>
            <a:ext cx="6286320" cy="23572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а морском дне куда не проникает солнечный свет, растения существовать не могут. Следовательно, там нет  животных, использующих растения в пищу.  Для глубоководных обитателей морского дна очень важным источником пищи служит тела мертвых животных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4" name="Picture 1" descr="H:\Documents and Settings\Даша.8C16D62EEB58464\Рабочий стол\02RWZLCAG1J1JPCA7OG2KDCA5YJIE7CACA39SGCAVLT7D4CAA5JBP6CAM408I8CA9V5641CAC6EPRPCAP7SYPCCAD22IW2CAGA7DPICA8ZTMAPCAUVX74NCA6KPSL8CAOD4T9NCAQ4WXNE.jpg"/>
          <p:cNvPicPr/>
          <p:nvPr/>
        </p:nvPicPr>
        <p:blipFill>
          <a:blip r:embed="rId2"/>
          <a:stretch/>
        </p:blipFill>
        <p:spPr>
          <a:xfrm>
            <a:off x="571680" y="1928880"/>
            <a:ext cx="7572240" cy="492912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/>
          </p:nvPr>
        </p:nvSpPr>
        <p:spPr>
          <a:xfrm>
            <a:off x="499680" y="214200"/>
            <a:ext cx="2786040" cy="32148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8000"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Одни морские животные могут переносить других на своем теле – так на морских черепахах и акулах путешествуют  рыбы-</a:t>
            </a:r>
            <a:r>
              <a:rPr b="1" i="1" lang="ru-RU" sz="2000" spc="-1" strike="noStrike">
                <a:solidFill>
                  <a:srgbClr val="ffffff"/>
                </a:solidFill>
                <a:latin typeface="Constantia"/>
              </a:rPr>
              <a:t>прилипалы</a:t>
            </a:r>
            <a:r>
              <a:rPr b="1" lang="ru-RU" sz="2000" spc="-1" strike="noStrike">
                <a:solidFill>
                  <a:srgbClr val="ffffff"/>
                </a:solidFill>
                <a:latin typeface="Constantia"/>
              </a:rPr>
              <a:t>. У которых в процессе эволюции спиной плавник преобразовался в присоску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07" name="Picture 1" descr="H:\Documents and Settings\Даша.8C16D62EEB58464\Рабочий стол\photo[1].jpg"/>
          <p:cNvPicPr/>
          <p:nvPr/>
        </p:nvPicPr>
        <p:blipFill>
          <a:blip r:embed="rId2"/>
          <a:stretch/>
        </p:blipFill>
        <p:spPr>
          <a:xfrm>
            <a:off x="3286080" y="0"/>
            <a:ext cx="5857920" cy="29289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H:\Documents and Settings\Даша.8C16D62EEB58464\Рабочий стол\0FN3F5CAXB8HBXCAOXPBQ0CADOFFLDCATCP7XQCA2511GHCA4RZOXBCADX1ILPCA7LEI4ZCAMTQBLKCA562PZ7CA1MAHP2CA3XAR8CCAA5349WCAOJHPIKCABOOK58CAJUX8BUCABO37DW.jpg"/>
          <p:cNvPicPr/>
          <p:nvPr/>
        </p:nvPicPr>
        <p:blipFill>
          <a:blip r:embed="rId3"/>
          <a:stretch/>
        </p:blipFill>
        <p:spPr>
          <a:xfrm>
            <a:off x="3714840" y="2857680"/>
            <a:ext cx="5429160" cy="377820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3" descr="H:\Documents and Settings\Даша.8C16D62EEB58464\Рабочий стол\4GKR2WCAYFEGJDCAG7EUPZCAM7IKLKCA5WGMBJCALLTMKRCA4XWYS7CAR3WVN7CAZJQJQJCAC6KVGACALIXDB6CAAU7LOFCAAIYUR2CA60361WCA7J3GKLCAS0F7CECA4FJS57CA8DGWK5.jpg"/>
          <p:cNvPicPr/>
          <p:nvPr/>
        </p:nvPicPr>
        <p:blipFill>
          <a:blip r:embed="rId4"/>
          <a:stretch/>
        </p:blipFill>
        <p:spPr>
          <a:xfrm>
            <a:off x="0" y="3214800"/>
            <a:ext cx="4643280" cy="364320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/>
          </p:nvPr>
        </p:nvSpPr>
        <p:spPr>
          <a:xfrm>
            <a:off x="6500880" y="213840"/>
            <a:ext cx="2643120" cy="4000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7000"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Constantia"/>
              </a:rPr>
              <a:t>Некоторые животные используют другие организмы в качестве убежищ. Рыбы-клоуны прячутся среди жгучих щупалец актинии. А рыбки- кривохвостки спасаются от врагов среди иголок морских ежей.</a:t>
            </a:r>
            <a:endParaRPr b="0" lang="en-US" sz="2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2" name="Picture 2" descr="H:\Documents and Settings\Даша.8C16D62EEB58464\Рабочий стол\pom005[1].jpg"/>
          <p:cNvPicPr/>
          <p:nvPr/>
        </p:nvPicPr>
        <p:blipFill>
          <a:blip r:embed="rId2"/>
          <a:stretch/>
        </p:blipFill>
        <p:spPr>
          <a:xfrm>
            <a:off x="0" y="0"/>
            <a:ext cx="5000760" cy="392904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3" descr="H:\Documents and Settings\Даша.8C16D62EEB58464\Рабочий стол\a9[1].jpg"/>
          <p:cNvPicPr/>
          <p:nvPr/>
        </p:nvPicPr>
        <p:blipFill>
          <a:blip r:embed="rId3"/>
          <a:stretch/>
        </p:blipFill>
        <p:spPr>
          <a:xfrm>
            <a:off x="0" y="3571920"/>
            <a:ext cx="5000760" cy="328608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4" descr="H:\Documents and Settings\Даша.8C16D62EEB58464\Рабочий стол\H06GQTCAZCO2XSCAY27GURCAJL21H3CAVG8I0YCAVU8Q5PCA5527D4CA999ZAACAXVAPO8CABEBI63CARA3VKSCANI2PXXCA5AEJEBCAJ5UQLZCAAX01J0CAW7CU29CAGKETL1CAGQ95FQ.jpg"/>
          <p:cNvPicPr/>
          <p:nvPr/>
        </p:nvPicPr>
        <p:blipFill>
          <a:blip r:embed="rId4"/>
          <a:stretch/>
        </p:blipFill>
        <p:spPr>
          <a:xfrm>
            <a:off x="5000760" y="3714840"/>
            <a:ext cx="4143240" cy="314316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Заголовок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16" name="PlaceHolder 1"/>
          <p:cNvSpPr>
            <a:spLocks noGrp="1"/>
          </p:cNvSpPr>
          <p:nvPr>
            <p:ph/>
          </p:nvPr>
        </p:nvSpPr>
        <p:spPr>
          <a:xfrm>
            <a:off x="-360" y="0"/>
            <a:ext cx="2327400" cy="6858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 fontScale="99000"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Известны взаимовыгодные отношения между различными рыбами. Так, мелкие рыбки- чистильщики избавляют от кожных паразитов крупных хищных рыб. Они не  только собирают паразитов, но и  обрабатывают зубастый рот своих(пациентов)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Picture 2" descr="H:\Documents and Settings\Даша.8C16D62EEB58464\Рабочий стол\0033[1].jpg"/>
          <p:cNvPicPr/>
          <p:nvPr/>
        </p:nvPicPr>
        <p:blipFill>
          <a:blip r:embed="rId2"/>
          <a:stretch/>
        </p:blipFill>
        <p:spPr>
          <a:xfrm>
            <a:off x="2857680" y="0"/>
            <a:ext cx="6286320" cy="414324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3" descr="H:\Documents and Settings\Даша.8C16D62EEB58464\Рабочий стол\POQ7LSCADMVPSGCAGS0MVPCAJ2UJ8WCAR1C9VZCASNWA7ECAGN05M7CAK26S07CA5U60FGCA8EZ89ECAIWM0C4CAO8KD47CA8BLHLBCAZSS5OKCAFG5AXMCA15KAW1CAUJDCXXCA4EVSI2.jpg"/>
          <p:cNvPicPr/>
          <p:nvPr/>
        </p:nvPicPr>
        <p:blipFill>
          <a:blip r:embed="rId3"/>
          <a:stretch/>
        </p:blipFill>
        <p:spPr>
          <a:xfrm>
            <a:off x="2857680" y="3357720"/>
            <a:ext cx="6286320" cy="3500280"/>
          </a:xfrm>
          <a:prstGeom prst="rect">
            <a:avLst/>
          </a:prstGeom>
          <a:ln w="0">
            <a:noFill/>
          </a:ln>
        </p:spPr>
      </p:pic>
    </p:spTree>
  </p:cSld>
  <p:transition spd="med"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9" name="Picture 2" descr="H:\Documents and Settings\Даша.8C16D62EEB58464\Рабочий стол\70015d5e73144e2667ee58c675f10dac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0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/>
          </p:nvPr>
        </p:nvSpPr>
        <p:spPr>
          <a:xfrm>
            <a:off x="571680" y="0"/>
            <a:ext cx="7827840" cy="150984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Уже известные нам рыбки-кривохвостки прячутся от врагов среди острых игл  морского ежа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Picture 2" descr="H:\Documents and Settings\Даша.8C16D62EEB58464\Рабочий стол\post-32-1119025982[1]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3" name="Заголовок 1" descr=""/>
          <p:cNvPicPr/>
          <p:nvPr/>
        </p:nvPicPr>
        <p:blipFill>
          <a:blip r:embed="rId2"/>
          <a:stretch/>
        </p:blipFill>
        <p:spPr>
          <a:xfrm>
            <a:off x="530280" y="1316160"/>
            <a:ext cx="7772400" cy="136656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0" y="142560"/>
            <a:ext cx="2470320" cy="67150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Constantia"/>
              </a:rPr>
              <a:t>Некоторые рыбы, кормясь, помогают кормится другим.  Как например рыбы-попугаи. Отламывают своими челюстями веточки коралла и глотают их. И к этому месту подплывают мелкие рыбки и достают  из обломков морских червей.</a:t>
            </a:r>
            <a:endParaRPr b="0" lang="en-US" sz="22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p:transition spd="med">
    <p:randomBar dir="vert"/>
    <p:sndAc>
      <p:stSnd>
        <p:snd r:embed="rId3" name="applause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1T14:43:22Z</dcterms:created>
  <dc:creator>Даша</dc:creator>
  <dc:description/>
  <dc:language>en-US</dc:language>
  <cp:lastModifiedBy>Жена_Мастера</cp:lastModifiedBy>
  <dcterms:modified xsi:type="dcterms:W3CDTF">2011-11-13T10:00:17Z</dcterms:modified>
  <cp:revision>9</cp:revision>
  <dc:subject/>
  <dc:title>Взаимосвязь морских животных</dc:title>
</cp:coreProperties>
</file>