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5063-274C-4997-8E65-16898070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6FF4-0201-4A87-8420-C9608995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6ABA-C5A2-476E-9613-10514CD2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152F-235A-4F00-9419-B1F501C0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5AC7-58A5-4133-ABBE-5A79589A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2CD8-204E-40A4-A925-93DA0E61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49B3-0622-4486-A8F1-F1250E25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4AF6-FFD5-403E-85B1-9BE223EF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5DB8-71FE-46B7-BE1F-33DF8884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B958-F807-4367-97AC-74708FB7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942A-5095-48A7-8FE1-D653B1AA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89E4-B84C-4348-93DA-1DFB5326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25D6-0037-497E-A532-20A26895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B776-9D51-4A4D-9938-4E930551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E8CD-EB31-4FF6-B02D-72942AEE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1342-4625-42E6-B3D4-202B4FAA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5CFB-91BA-4398-81CE-80B8EEEA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EFFE-64C7-44E2-BBD5-2C98C59E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42B0-D1E5-4A2F-BB5D-8539AAC4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312E-5EFC-4D8C-8D3E-007B680E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6B37-DD39-4FF8-8F4F-87BBC1CA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C770-A91C-46A9-A9DD-95999C3B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835A-F37E-4DD5-BF49-1D9ED2E5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6CF2-D21C-47BB-9198-42930968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F67E-63B6-4060-83FE-6DCAF9DF8E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10CE-1B83-4BBC-A5DA-4B886E295D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Водоём как многоэтажное жилище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полнила работу: Максименко Вла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собенност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Плотность более высокая, чем плотность воздуха. Благодаря этому огромное число животных способно как бы парить в водной толщине, никогда не опускаться на д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Вода менее прозрачна, чем воздух. На глубине 200 м царят сумерки, а на большие глубины никогда не проникает солнечный св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Вода обладает высокой теплоёмкостью, чем воздух (поэтому купальщики так быстро мёрзнут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«Этажи» водоём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Бенто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Планкт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Нект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Литора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4496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«Этажи» водоёма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Бентос (от греч. бентос – глубина.)  –животные которые можно обнаружить на дне. Это различные губки, кишечнополостные (кораллы и актинии), плоские и кольчатые черви. Так же  креветки, раки и крабы, двухстворчатые и брюхоногие моллюс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724280" cy="28195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4724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«Этажи» водоём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ланктон (от греч. планктос – блуждающие.) – животные у которых плотность тела не отличается от плотности воды и поэтому они способны, «висеть» в её толщине. Помогает им в этом многочисленные выросты на теле. Это радиолярии, медузы, маленькие рачки, гребеш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648320" y="1146240"/>
            <a:ext cx="4495680" cy="2806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648320" y="3981600"/>
            <a:ext cx="44956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«Этажи» водоём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Нектон (от греч. нектос – плывущий.)- это животные которые обитают в толщине воды и легко справляются с самыми сильными течениями и развивают большую скорость. Наиболее типичные нектонные животные – это рыбы, киты, дельфины, кальмары. Развивают скорость очень большую до 130 к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724280" y="1143000"/>
            <a:ext cx="4302360" cy="2763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«Этажи» водоём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Литораль ( от лат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us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реговой.)- это животные которые обитают на границе водной и наземно-воздушной среде.  Это крабы, раки, илистый прыгу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4114800" cy="28958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52280" y="3962520"/>
            <a:ext cx="4114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25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2-17T15:14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