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8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20F-288B-484A-AE71-FD27B934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0CC-60A2-4A1A-BD8C-3869253D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77A-B6F1-4328-9864-503162ED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598-759A-497D-A349-41227C43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E1F3-48FF-493A-8BE7-2C8E4AD7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2D7A-FB7C-492C-8CD3-E380BC0B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1D81-8F23-43F5-9DE2-3EC11638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D89F-5492-4418-B518-D656AF8F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96FC-E830-4BBC-BF54-2B4D8515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D290-EB6E-40D4-A679-F8642902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3FA3-7DF4-4D3A-988D-EA81CC2E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4C2F-B4BD-4A4D-9636-6A99BB6E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480A-2639-428D-AE62-23424D53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128B-0B9F-49D0-BF35-79529544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752C-B68E-413D-861E-5ABB631E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A7E4-1A29-400A-AB74-ACA192CF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B083-D312-4F01-9EBC-61DF826E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363E-8BFA-4890-93DE-9DB0DDF5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B844-D5C0-4B28-BA03-7D7F63A6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3949-B2D1-4009-A3FE-959EE229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7C6F-408C-41E9-BBF8-73DE47DA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8A5B-FF3F-40DD-9CFE-94B47735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209-E9E2-4398-BBEE-EAED58A9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EE05-183A-4A5D-B7C9-ED00FF33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03CF-FD98-4C67-850D-E1640D9AB7C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745B-12BB-49A8-9331-1EFE98919F8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73120" y="30240"/>
            <a:ext cx="790092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786040" y="4857840"/>
            <a:ext cx="6114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  ученик 7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“A”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класса Котерев Дмитр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гималаи.jpg"/>
          <p:cNvPicPr/>
          <p:nvPr/>
        </p:nvPicPr>
        <p:blipFill>
          <a:blip r:embed="rId1"/>
          <a:stretch/>
        </p:blipFill>
        <p:spPr>
          <a:xfrm>
            <a:off x="285840" y="3143160"/>
            <a:ext cx="450036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8" descr="гималаи 2.jpg"/>
          <p:cNvPicPr/>
          <p:nvPr/>
        </p:nvPicPr>
        <p:blipFill>
          <a:blip r:embed="rId2"/>
          <a:stretch/>
        </p:blipFill>
        <p:spPr>
          <a:xfrm>
            <a:off x="5143680" y="3143160"/>
            <a:ext cx="3714480" cy="335772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9" descr=""/>
          <p:cNvPicPr/>
          <p:nvPr/>
        </p:nvPicPr>
        <p:blipFill>
          <a:blip r:embed="rId3"/>
          <a:stretch/>
        </p:blipFill>
        <p:spPr>
          <a:xfrm>
            <a:off x="171360" y="262080"/>
            <a:ext cx="8801280" cy="2944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208080" y="360360"/>
            <a:ext cx="8667720" cy="322416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4" descr="як.jpg"/>
          <p:cNvPicPr/>
          <p:nvPr/>
        </p:nvPicPr>
        <p:blipFill>
          <a:blip r:embed="rId2"/>
          <a:stretch/>
        </p:blipFill>
        <p:spPr>
          <a:xfrm>
            <a:off x="214200" y="3571920"/>
            <a:ext cx="449604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5" descr="як 2.jpg"/>
          <p:cNvPicPr/>
          <p:nvPr/>
        </p:nvPicPr>
        <p:blipFill>
          <a:blip r:embed="rId3"/>
          <a:stretch/>
        </p:blipFill>
        <p:spPr>
          <a:xfrm>
            <a:off x="4929120" y="3786120"/>
            <a:ext cx="403884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311040" y="274680"/>
            <a:ext cx="8508960" cy="287028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снежн коза.jpg"/>
          <p:cNvPicPr/>
          <p:nvPr/>
        </p:nvPicPr>
        <p:blipFill>
          <a:blip r:embed="rId2"/>
          <a:stretch/>
        </p:blipFill>
        <p:spPr>
          <a:xfrm>
            <a:off x="285840" y="3500280"/>
            <a:ext cx="4214880" cy="289728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5" descr="снежн коза 2.jpg"/>
          <p:cNvPicPr/>
          <p:nvPr/>
        </p:nvPicPr>
        <p:blipFill>
          <a:blip r:embed="rId3"/>
          <a:stretch/>
        </p:blipFill>
        <p:spPr>
          <a:xfrm>
            <a:off x="4786200" y="3500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103320" y="225360"/>
            <a:ext cx="8613720" cy="29876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снежный барс.jpg"/>
          <p:cNvPicPr/>
          <p:nvPr/>
        </p:nvPicPr>
        <p:blipFill>
          <a:blip r:embed="rId2"/>
          <a:stretch/>
        </p:blipFill>
        <p:spPr>
          <a:xfrm>
            <a:off x="214200" y="3500280"/>
            <a:ext cx="4143600" cy="305280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5" descr="снежный барс 2.jpg"/>
          <p:cNvPicPr/>
          <p:nvPr/>
        </p:nvPicPr>
        <p:blipFill>
          <a:blip r:embed="rId3"/>
          <a:stretch/>
        </p:blipFill>
        <p:spPr>
          <a:xfrm>
            <a:off x="4643280" y="3500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139680" y="212760"/>
            <a:ext cx="8864640" cy="235908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4" descr="ламы.jpg"/>
          <p:cNvPicPr/>
          <p:nvPr/>
        </p:nvPicPr>
        <p:blipFill>
          <a:blip r:embed="rId2"/>
          <a:stretch/>
        </p:blipFill>
        <p:spPr>
          <a:xfrm>
            <a:off x="285840" y="2714760"/>
            <a:ext cx="4038480" cy="389556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5" descr="лама 2.jpg"/>
          <p:cNvPicPr/>
          <p:nvPr/>
        </p:nvPicPr>
        <p:blipFill>
          <a:blip r:embed="rId3"/>
          <a:stretch/>
        </p:blipFill>
        <p:spPr>
          <a:xfrm>
            <a:off x="4714920" y="2714760"/>
            <a:ext cx="4143240" cy="3071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165240" y="146160"/>
            <a:ext cx="8637480" cy="34448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4" descr="кондор.JPG"/>
          <p:cNvPicPr/>
          <p:nvPr/>
        </p:nvPicPr>
        <p:blipFill>
          <a:blip r:embed="rId2"/>
          <a:stretch/>
        </p:blipFill>
        <p:spPr>
          <a:xfrm>
            <a:off x="214200" y="3714840"/>
            <a:ext cx="4357800" cy="26748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5" descr="кондора.jpg"/>
          <p:cNvPicPr/>
          <p:nvPr/>
        </p:nvPicPr>
        <p:blipFill>
          <a:blip r:embed="rId3"/>
          <a:stretch/>
        </p:blipFill>
        <p:spPr>
          <a:xfrm>
            <a:off x="4786200" y="3786120"/>
            <a:ext cx="4038840" cy="2673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4-01-13T16:15:08Z</dcterms:modified>
  <cp:revision>13</cp:revision>
  <dc:subject/>
  <dc:title>Животные горных областей</dc:title>
</cp:coreProperties>
</file>