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3.jpeg" ContentType="image/jpeg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FEB7-0360-47BF-BDE4-B9D386F6E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086C-2916-44D1-B951-7DA238915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6C1B-5F9D-4F11-AFB2-7AF8B5CEC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19F2-9207-43D2-A508-EBBD6779B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9A2F-7683-49BE-B9E3-B211C1320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3487-0549-4F89-8F71-CD82C2D43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A0F7-95B1-4571-883C-B474FB371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A2DC-5964-4A5F-94A7-7872770D2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2800-B28F-4A80-8DB1-EB357FC41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235D-647A-4365-AE70-9AB790392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32B6-5347-407C-8239-2B6E64F88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D7E7-8549-4EA5-AD21-225712EFB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556AD-90D1-43CB-B6F6-A4C72842F76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osmusor.info/" TargetMode="External"/><Relationship Id="rId3" Type="http://schemas.openxmlformats.org/officeDocument/2006/relationships/hyperlink" Target="http://biodat.ru/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4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7640" y="1196640"/>
            <a:ext cx="65502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Arial"/>
              </a:rPr>
              <a:t>«Спасти свой город от свалок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94920" y="3500280"/>
            <a:ext cx="8010360" cy="18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Команда «Робинзоны», МБОУ СОШ №9 г.Кулеба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0000"/>
                </a:solidFill>
                <a:latin typeface="Arial"/>
              </a:rPr>
              <a:t>Члены команды: Сазанов Андрей Анатольевич, 7а , Шихова Юлия Владимиовна, 7а , Шумова Валерия Алексеевна, 8б, Коженкова Дарья Максимовна, 8б, Симонова Виктория Сергеевна, 8б, Логинов Владимир Александрович, 8б, Борисов Алексей Васильевич, 8б</a:t>
            </a:r>
            <a:r>
              <a:rPr b="0" lang="ru-RU" sz="1400" spc="-1" strike="noStrike">
                <a:solidFill>
                  <a:srgbClr val="cc66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990000"/>
                </a:solidFill>
                <a:latin typeface="Arial"/>
              </a:rPr>
              <a:t>Руководители: Савина Наталья Борисовна, Любшин Евгений Владимирови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картинки мусор"/>
          <p:cNvPicPr/>
          <p:nvPr/>
        </p:nvPicPr>
        <p:blipFill>
          <a:blip r:embed="rId1"/>
          <a:stretch/>
        </p:blipFill>
        <p:spPr>
          <a:xfrm>
            <a:off x="7667640" y="5381640"/>
            <a:ext cx="1476360" cy="14763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i?id=467232035-52-72&amp;n=21"/>
          <p:cNvPicPr/>
          <p:nvPr/>
        </p:nvPicPr>
        <p:blipFill>
          <a:blip r:embed="rId2"/>
          <a:stretch/>
        </p:blipFill>
        <p:spPr>
          <a:xfrm>
            <a:off x="0" y="0"/>
            <a:ext cx="188604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951280" y="1341000"/>
            <a:ext cx="6192720" cy="71640"/>
          </a:xfrm>
          <a:prstGeom prst="rect">
            <a:avLst/>
          </a:prstGeom>
          <a:noFill/>
          <a:ln w="0">
            <a:noFill/>
          </a:ln>
        </p:spPr>
        <p:txBody>
          <a:bodyPr tIns="25920" bIns="259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179280" y="2708280"/>
            <a:ext cx="8640720" cy="44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Откажись</a:t>
            </a:r>
            <a:r>
              <a:rPr b="0" lang="ru-RU" sz="2000" spc="-1" strike="noStrike">
                <a:solidFill>
                  <a:srgbClr val="990000"/>
                </a:solidFill>
                <a:latin typeface="Arial"/>
              </a:rPr>
              <a:t>…от покупки ненужной вещ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Почини…</a:t>
            </a: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ремонт вещи продлит ей жизнь, съэкономит сред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Потребляй меньше…</a:t>
            </a: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используй вещи с большим сроком жиз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Используй повторно… </a:t>
            </a: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ходи в магазин со своей сумк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Выбирай продукты с минимумом упаковки… </a:t>
            </a: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покупай целое, а не часть, ее не надо упаковыв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Раздельный сбор мусо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6" descr="картинки мусор"/>
          <p:cNvPicPr/>
          <p:nvPr/>
        </p:nvPicPr>
        <p:blipFill>
          <a:blip r:embed="rId1"/>
          <a:stretch/>
        </p:blipFill>
        <p:spPr>
          <a:xfrm>
            <a:off x="7000920" y="471492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86" name="Text Box 8"/>
          <p:cNvSpPr/>
          <p:nvPr/>
        </p:nvSpPr>
        <p:spPr>
          <a:xfrm>
            <a:off x="539640" y="189000"/>
            <a:ext cx="640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9"/>
          <p:cNvSpPr/>
          <p:nvPr/>
        </p:nvSpPr>
        <p:spPr>
          <a:xfrm>
            <a:off x="539640" y="260280"/>
            <a:ext cx="66247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Оптимальным путем решения проблемы мусора в нашем городе мы считаем…</a:t>
            </a: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проведение бесе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0" descr="картинки мусор"/>
          <p:cNvPicPr/>
          <p:nvPr/>
        </p:nvPicPr>
        <p:blipFill>
          <a:blip r:embed="rId2"/>
          <a:stretch/>
        </p:blipFill>
        <p:spPr>
          <a:xfrm>
            <a:off x="7000920" y="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89" name="Text Box 11"/>
          <p:cNvSpPr/>
          <p:nvPr/>
        </p:nvSpPr>
        <p:spPr>
          <a:xfrm>
            <a:off x="324000" y="126828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Мы молодые и сильные. Когда мы вместе нам легче. Вместе мы сил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2"/>
          <p:cNvSpPr/>
          <p:nvPr/>
        </p:nvSpPr>
        <p:spPr>
          <a:xfrm>
            <a:off x="539640" y="2060640"/>
            <a:ext cx="61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Выработка жизненной стратегии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Diagram 5"/>
          <p:cNvGrpSpPr/>
          <p:nvPr/>
        </p:nvGrpSpPr>
        <p:grpSpPr>
          <a:xfrm>
            <a:off x="2460600" y="1231920"/>
            <a:ext cx="4154400" cy="4003560"/>
            <a:chOff x="2460600" y="1231920"/>
            <a:chExt cx="4154400" cy="4003560"/>
          </a:xfrm>
        </p:grpSpPr>
        <p:sp>
          <p:nvSpPr>
            <p:cNvPr id="92" name="_s1028"/>
            <p:cNvSpPr/>
            <p:nvPr/>
          </p:nvSpPr>
          <p:spPr>
            <a:xfrm flipH="1" flipV="1">
              <a:off x="3509640" y="3053880"/>
              <a:ext cx="515880" cy="1666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029"/>
            <p:cNvSpPr/>
            <p:nvPr/>
          </p:nvSpPr>
          <p:spPr>
            <a:xfrm>
              <a:off x="2460600" y="2347920"/>
              <a:ext cx="1077840" cy="1077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Сжигание - 2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030"/>
            <p:cNvSpPr/>
            <p:nvPr/>
          </p:nvSpPr>
          <p:spPr>
            <a:xfrm flipH="1">
              <a:off x="3903480" y="3821040"/>
              <a:ext cx="317160" cy="4399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031"/>
            <p:cNvSpPr/>
            <p:nvPr/>
          </p:nvSpPr>
          <p:spPr>
            <a:xfrm>
              <a:off x="3048120" y="4157640"/>
              <a:ext cx="1077840" cy="1077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Не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интересно - 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032"/>
            <p:cNvSpPr/>
            <p:nvPr/>
          </p:nvSpPr>
          <p:spPr>
            <a:xfrm>
              <a:off x="4853160" y="3821040"/>
              <a:ext cx="318960" cy="4381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033"/>
            <p:cNvSpPr/>
            <p:nvPr/>
          </p:nvSpPr>
          <p:spPr>
            <a:xfrm>
              <a:off x="4950000" y="4157640"/>
              <a:ext cx="1077840" cy="1077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Затрудняюсь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ответить- 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034"/>
            <p:cNvSpPr/>
            <p:nvPr/>
          </p:nvSpPr>
          <p:spPr>
            <a:xfrm flipV="1">
              <a:off x="5048280" y="3052440"/>
              <a:ext cx="514440" cy="1681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035"/>
            <p:cNvSpPr/>
            <p:nvPr/>
          </p:nvSpPr>
          <p:spPr>
            <a:xfrm>
              <a:off x="5537160" y="2349360"/>
              <a:ext cx="1077840" cy="10782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Захоронение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за пределам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района-2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036"/>
            <p:cNvSpPr/>
            <p:nvPr/>
          </p:nvSpPr>
          <p:spPr>
            <a:xfrm flipV="1">
              <a:off x="4537080" y="2307960"/>
              <a:ext cx="0" cy="54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_s1037"/>
            <p:cNvSpPr/>
            <p:nvPr/>
          </p:nvSpPr>
          <p:spPr>
            <a:xfrm>
              <a:off x="3998880" y="1231920"/>
              <a:ext cx="1077840" cy="1077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Переработка - 7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_s1038"/>
            <p:cNvSpPr/>
            <p:nvPr/>
          </p:nvSpPr>
          <p:spPr>
            <a:xfrm>
              <a:off x="3998880" y="2849400"/>
              <a:ext cx="1077840" cy="10782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660066"/>
                  </a:solidFill>
                  <a:latin typeface="Arial"/>
                </a:rPr>
                <a:t>мусо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Text Box 17"/>
          <p:cNvSpPr/>
          <p:nvPr/>
        </p:nvSpPr>
        <p:spPr>
          <a:xfrm>
            <a:off x="611280" y="404640"/>
            <a:ext cx="76327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Какие способы утилизации отходов являются наиболее приемлемыми? (по результатам опрос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8" descr="картинки мусор"/>
          <p:cNvPicPr/>
          <p:nvPr/>
        </p:nvPicPr>
        <p:blipFill>
          <a:blip r:embed="rId7"/>
          <a:stretch/>
        </p:blipFill>
        <p:spPr>
          <a:xfrm>
            <a:off x="7000920" y="471492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5" descr="%D0%BC%D1%83%D1%81%D0%BE%D1%80"/>
          <p:cNvPicPr/>
          <p:nvPr/>
        </p:nvPicPr>
        <p:blipFill>
          <a:blip r:embed="rId1"/>
          <a:stretch/>
        </p:blipFill>
        <p:spPr>
          <a:xfrm>
            <a:off x="0" y="333360"/>
            <a:ext cx="3924360" cy="26989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8" descr="картинки мусор"/>
          <p:cNvPicPr/>
          <p:nvPr/>
        </p:nvPicPr>
        <p:blipFill>
          <a:blip r:embed="rId2"/>
          <a:stretch/>
        </p:blipFill>
        <p:spPr>
          <a:xfrm>
            <a:off x="7000920" y="471492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9"/>
          <p:cNvSpPr/>
          <p:nvPr/>
        </p:nvSpPr>
        <p:spPr>
          <a:xfrm>
            <a:off x="4140360" y="620640"/>
            <a:ext cx="482436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Бюджет нашего плана прост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66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Лозунги и плакаты пишем на старых обоях (их много в каждом доме, а старых красок море у каждого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66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Одежду для выступлений шьем сами из старых вещей на рука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66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Изготовление поделок «домовенков» из старых вещей и предметов быт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66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Фримаркет старых вещей и прочитанных книг, посуды, бытовой утва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3" descr="18965"/>
          <p:cNvPicPr/>
          <p:nvPr/>
        </p:nvPicPr>
        <p:blipFill>
          <a:blip r:embed="rId3"/>
          <a:stretch/>
        </p:blipFill>
        <p:spPr>
          <a:xfrm>
            <a:off x="0" y="3338640"/>
            <a:ext cx="4067280" cy="35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7" descr="e83bb8c65e7de2f6e83f136e5cd87b95"/>
          <p:cNvPicPr/>
          <p:nvPr/>
        </p:nvPicPr>
        <p:blipFill>
          <a:blip r:embed="rId1"/>
          <a:stretch/>
        </p:blipFill>
        <p:spPr>
          <a:xfrm>
            <a:off x="179280" y="2781360"/>
            <a:ext cx="2776680" cy="38876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картинки мусор"/>
          <p:cNvPicPr/>
          <p:nvPr/>
        </p:nvPicPr>
        <p:blipFill>
          <a:blip r:embed="rId2"/>
          <a:stretch/>
        </p:blipFill>
        <p:spPr>
          <a:xfrm>
            <a:off x="7000920" y="471492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картинки мусор"/>
          <p:cNvPicPr/>
          <p:nvPr/>
        </p:nvPicPr>
        <p:blipFill>
          <a:blip r:embed="rId3"/>
          <a:stretch/>
        </p:blipFill>
        <p:spPr>
          <a:xfrm>
            <a:off x="6156360" y="260280"/>
            <a:ext cx="2808360" cy="30974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0" descr="картинки мусор"/>
          <p:cNvPicPr/>
          <p:nvPr/>
        </p:nvPicPr>
        <p:blipFill>
          <a:blip r:embed="rId4"/>
          <a:stretch/>
        </p:blipFill>
        <p:spPr>
          <a:xfrm>
            <a:off x="2700360" y="260280"/>
            <a:ext cx="3240000" cy="324000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11"/>
          <p:cNvSpPr/>
          <p:nvPr/>
        </p:nvSpPr>
        <p:spPr>
          <a:xfrm>
            <a:off x="3348000" y="3645000"/>
            <a:ext cx="46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Arial"/>
              </a:rPr>
              <a:t>Наши лозун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00"/>
                </a:solidFill>
                <a:latin typeface="Arial"/>
              </a:rPr>
              <a:t>Ожидания от реализации нашего пла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324000" y="1628640"/>
            <a:ext cx="856908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99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Наш город станет самым чистым и уютным на земл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99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Жители нашего города будут складывать песни о красоте городских окрестностей, а не частушки о свалках мусо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99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Мы будем радоваться приходу весны и наблюдать как просыпается природа городских окрестностей, украшенная первоцветами, а не свал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99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9" descr="картинки мусор"/>
          <p:cNvPicPr/>
          <p:nvPr/>
        </p:nvPicPr>
        <p:blipFill>
          <a:blip r:embed="rId1"/>
          <a:stretch/>
        </p:blipFill>
        <p:spPr>
          <a:xfrm>
            <a:off x="7020000" y="4437000"/>
            <a:ext cx="2124000" cy="242100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11"/>
          <p:cNvSpPr/>
          <p:nvPr/>
        </p:nvSpPr>
        <p:spPr>
          <a:xfrm>
            <a:off x="971640" y="62064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Источники информации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2"/>
          <p:cNvSpPr/>
          <p:nvPr/>
        </p:nvSpPr>
        <p:spPr>
          <a:xfrm>
            <a:off x="395280" y="1125360"/>
            <a:ext cx="828036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ниленко И.В. Земля твой дом. –М.,Недра, 198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митриев Ю.Д.О природе для больших и маленьких. – М., Педагогика, 198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вин М. –М., детская литература, 197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rosmusor.info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Министерство экологии и природных ресур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biodat.ru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5" descr="i?id=464967952-09-72&amp;n=21"/>
          <p:cNvPicPr/>
          <p:nvPr/>
        </p:nvPicPr>
        <p:blipFill>
          <a:blip r:embed="rId1"/>
          <a:stretch/>
        </p:blipFill>
        <p:spPr>
          <a:xfrm>
            <a:off x="0" y="549360"/>
            <a:ext cx="5580000" cy="40100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картинки мусор"/>
          <p:cNvPicPr/>
          <p:nvPr/>
        </p:nvPicPr>
        <p:blipFill>
          <a:blip r:embed="rId2"/>
          <a:stretch/>
        </p:blipFill>
        <p:spPr>
          <a:xfrm>
            <a:off x="7000920" y="471492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9"/>
          <p:cNvSpPr/>
          <p:nvPr/>
        </p:nvSpPr>
        <p:spPr>
          <a:xfrm>
            <a:off x="5867280" y="1268280"/>
            <a:ext cx="2808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Мы живем в небольшом, но красивом городке Кулебаки, затерявшемся среди островков знаменитых Муромских лесов, на юго-западе Нижегород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0" descr="картинки мусор"/>
          <p:cNvPicPr/>
          <p:nvPr/>
        </p:nvPicPr>
        <p:blipFill>
          <a:blip r:embed="rId3"/>
          <a:stretch/>
        </p:blipFill>
        <p:spPr>
          <a:xfrm>
            <a:off x="0" y="471492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Заголовок 1" descr=""/>
          <p:cNvPicPr/>
          <p:nvPr/>
        </p:nvPicPr>
        <p:blipFill>
          <a:blip r:embed="rId1"/>
          <a:stretch/>
        </p:blipFill>
        <p:spPr>
          <a:xfrm>
            <a:off x="347760" y="96840"/>
            <a:ext cx="8667720" cy="17193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457200" y="1600200"/>
            <a:ext cx="8229600" cy="23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Мы провели опрос среди родителей и учащихся нашей школы, а также сами провели наблюдения и выяснили, что самой актуальной экологической проблемой является загрязнение территории бытовым мусор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" descr="C:\Users\Привет\Desktop\кулебаки\2013-04-25 14.16.28.jpg"/>
          <p:cNvPicPr/>
          <p:nvPr/>
        </p:nvPicPr>
        <p:blipFill>
          <a:blip r:embed="rId2"/>
          <a:stretch/>
        </p:blipFill>
        <p:spPr>
          <a:xfrm>
            <a:off x="366840" y="3735360"/>
            <a:ext cx="3973320" cy="25448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Users\Привет\Desktop\кулебаки\2013-04-25 14.07.47.jpg"/>
          <p:cNvPicPr/>
          <p:nvPr/>
        </p:nvPicPr>
        <p:blipFill>
          <a:blip r:embed="rId3"/>
          <a:stretch/>
        </p:blipFill>
        <p:spPr>
          <a:xfrm>
            <a:off x="4572000" y="3716280"/>
            <a:ext cx="3984480" cy="2546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картинки мусор"/>
          <p:cNvPicPr/>
          <p:nvPr/>
        </p:nvPicPr>
        <p:blipFill>
          <a:blip r:embed="rId4"/>
          <a:stretch/>
        </p:blipFill>
        <p:spPr>
          <a:xfrm>
            <a:off x="7956720" y="5734080"/>
            <a:ext cx="1187280" cy="11239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картинки мусор"/>
          <p:cNvPicPr/>
          <p:nvPr/>
        </p:nvPicPr>
        <p:blipFill>
          <a:blip r:embed="rId5"/>
          <a:stretch/>
        </p:blipFill>
        <p:spPr>
          <a:xfrm>
            <a:off x="3059280" y="3645000"/>
            <a:ext cx="2143080" cy="171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5"/>
          <p:cNvSpPr/>
          <p:nvPr/>
        </p:nvSpPr>
        <p:spPr>
          <a:xfrm>
            <a:off x="395280" y="260280"/>
            <a:ext cx="81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Arial"/>
              </a:rPr>
              <a:t>Улицы нашего города чистые или грязны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Object 8"/>
          <p:cNvGraphicFramePr/>
          <p:nvPr/>
        </p:nvGraphicFramePr>
        <p:xfrm>
          <a:off x="1476360" y="1197000"/>
          <a:ext cx="6095880" cy="40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197000"/>
                    <a:ext cx="60958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8" name="Picture 9" descr="картинки мусор"/>
          <p:cNvPicPr/>
          <p:nvPr/>
        </p:nvPicPr>
        <p:blipFill>
          <a:blip r:embed="rId3"/>
          <a:stretch/>
        </p:blipFill>
        <p:spPr>
          <a:xfrm>
            <a:off x="7000920" y="471492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0008-014-Iz-okoshek-musor-ne-brosajte-territoriju-ne-zasorjajte"/>
          <p:cNvPicPr/>
          <p:nvPr/>
        </p:nvPicPr>
        <p:blipFill>
          <a:blip r:embed="rId1"/>
          <a:stretch/>
        </p:blipFill>
        <p:spPr>
          <a:xfrm>
            <a:off x="0" y="404640"/>
            <a:ext cx="4859280" cy="3240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картинки мусор"/>
          <p:cNvPicPr/>
          <p:nvPr/>
        </p:nvPicPr>
        <p:blipFill>
          <a:blip r:embed="rId2"/>
          <a:stretch/>
        </p:blipFill>
        <p:spPr>
          <a:xfrm>
            <a:off x="7000920" y="471492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61" name="Text Box 9"/>
          <p:cNvSpPr/>
          <p:nvPr/>
        </p:nvSpPr>
        <p:spPr>
          <a:xfrm>
            <a:off x="0" y="4076640"/>
            <a:ext cx="730872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33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При строительстве многоквартирных домов были заложены площадки для мусорных баков. Поэтому он вывозился кое-как на свалку, что расположена за город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В частном секторе никогда не было мусорных контейнеров и жителям приходилось либо закапывать мусор, либо его сжигать. За многие десятилетия его накопилось так много, что не осталось около домов «свободного» для посадки растений мес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0"/>
          <p:cNvSpPr/>
          <p:nvPr/>
        </p:nvSpPr>
        <p:spPr>
          <a:xfrm>
            <a:off x="4859280" y="260280"/>
            <a:ext cx="3816360" cy="27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33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В городе преобладает малоэтажная застройка, которая возводилась в конце 17 века вокруг строящегося в те времена металлургического завода братьев Баташев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Районы «многоэтажек» находятся на северо – восто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4"/>
          <p:cNvSpPr/>
          <p:nvPr/>
        </p:nvSpPr>
        <p:spPr>
          <a:xfrm>
            <a:off x="4211640" y="260280"/>
            <a:ext cx="4753080" cy="38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При этом значительно изменился состав мусора: пластиковые пакеты, сумки, вилки, бутылки, стаканчики. Увеличился срок «разложения» такого мусора в сотни раз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Люди стали жить лучше, поэтому многие вещи перестали служить долго и мы их выбрасываем. Из-за подобных отходов на современных свалках пищевые отходы разлагаются не полностью. Поэтому они гниют с выделением ядовитой жидк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А ведь это очень опасно для нас. Мы все пьем воду, добытую из артезианских скважин, которые находятся в черте город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картинки мусор"/>
          <p:cNvPicPr/>
          <p:nvPr/>
        </p:nvPicPr>
        <p:blipFill>
          <a:blip r:embed="rId1"/>
          <a:stretch/>
        </p:blipFill>
        <p:spPr>
          <a:xfrm>
            <a:off x="7451640" y="5165640"/>
            <a:ext cx="1692360" cy="1692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C:\Users\Привет\Desktop\кулебаки\2013-04-25 14.11.07.jpg"/>
          <p:cNvPicPr/>
          <p:nvPr/>
        </p:nvPicPr>
        <p:blipFill>
          <a:blip r:embed="rId2"/>
          <a:stretch/>
        </p:blipFill>
        <p:spPr>
          <a:xfrm>
            <a:off x="179280" y="333360"/>
            <a:ext cx="3984840" cy="2735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C:\Users\Привет\Desktop\кулебаки\2013-04-25 14.11.07.jpg"/>
          <p:cNvPicPr/>
          <p:nvPr/>
        </p:nvPicPr>
        <p:blipFill>
          <a:blip r:embed="rId3"/>
          <a:stretch/>
        </p:blipFill>
        <p:spPr>
          <a:xfrm>
            <a:off x="179280" y="3429000"/>
            <a:ext cx="398484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6600"/>
                </a:solidFill>
                <a:latin typeface="Arial"/>
              </a:rPr>
              <a:t>Что сделано уже для решения данной пробл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684360" y="981000"/>
            <a:ext cx="8135640" cy="519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Еще год назад наш город утопал в мусорных свалках, которые были не только около мусорных контейнеров, не убранных в срок, но и просто на дорожках в скверах и садах. У нас просто не было в городе «мусорок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Сейчас их можно увидеть везде и рука уже сама не поднимается выбросить фантик на землю или бросить использованную одноразовую посу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В городе налажена система вывоза бытового мусора. Редко увидишь переполненные контейне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Но сознание некоторых «кулебачан» еще не готово к таким благам цивилизации. Поэтому они по-старинке выбрасывают мусор около дома соседа или по- дороге на работу, так как контейнеры стоят далеко от их дома. Это действительно так. Пара контейнеров может «обслуживать» два десятка улиц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Ура, наконец- то в нашем городе появились общественные туалет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Ежегодно в городе и районе проводятся конкурсы на «самую чистую улицу» или «самый чистый подьезд», «самый зеленый балкон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6" descr="картинки мусор"/>
          <p:cNvPicPr/>
          <p:nvPr/>
        </p:nvPicPr>
        <p:blipFill>
          <a:blip r:embed="rId1"/>
          <a:stretch/>
        </p:blipFill>
        <p:spPr>
          <a:xfrm>
            <a:off x="7812000" y="5445000"/>
            <a:ext cx="1332000" cy="1413000"/>
          </a:xfrm>
          <a:prstGeom prst="rect">
            <a:avLst/>
          </a:prstGeom>
          <a:ln w="0">
            <a:noFill/>
          </a:ln>
        </p:spPr>
      </p:pic>
      <p:sp>
        <p:nvSpPr>
          <p:cNvPr id="70" name="AutoShape 8"/>
          <p:cNvSpPr/>
          <p:nvPr/>
        </p:nvSpPr>
        <p:spPr>
          <a:xfrm>
            <a:off x="0" y="1844640"/>
            <a:ext cx="611280" cy="64764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10"/>
          <p:cNvSpPr/>
          <p:nvPr/>
        </p:nvSpPr>
        <p:spPr>
          <a:xfrm>
            <a:off x="0" y="2852640"/>
            <a:ext cx="684360" cy="5763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11"/>
          <p:cNvSpPr/>
          <p:nvPr/>
        </p:nvSpPr>
        <p:spPr>
          <a:xfrm>
            <a:off x="0" y="3789360"/>
            <a:ext cx="611280" cy="5763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12"/>
          <p:cNvSpPr/>
          <p:nvPr/>
        </p:nvSpPr>
        <p:spPr>
          <a:xfrm>
            <a:off x="0" y="5084640"/>
            <a:ext cx="611280" cy="43200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13"/>
          <p:cNvSpPr/>
          <p:nvPr/>
        </p:nvSpPr>
        <p:spPr>
          <a:xfrm>
            <a:off x="0" y="5589720"/>
            <a:ext cx="647640" cy="50328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324000" y="1125360"/>
          <a:ext cx="8569080" cy="5739120"/>
        </p:xfrm>
        <a:graphic>
          <a:graphicData uri="http://schemas.openxmlformats.org/drawingml/2006/table">
            <a:tbl>
              <a:tblPr/>
              <a:tblGrid>
                <a:gridCol w="2855880"/>
                <a:gridCol w="2857320"/>
                <a:gridCol w="2855880"/>
              </a:tblGrid>
              <a:tr h="92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Пути решения проблем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Преимущества данного решения проблемы (+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Недостатки данного решения проблемы (-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1 путь</a:t>
                      </a:r>
                      <a:r>
                        <a:rPr b="0" lang="ru-RU" sz="2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 - </a:t>
                      </a:r>
                      <a:r>
                        <a:rPr b="0" lang="ru-RU" sz="20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проводить беседы с население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Охватываются большие слои населения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Разные формы проведения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Есть возможность проявить свои умения в разных областях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Некоторые жители потребительски относятся к своему городу, считая недостойным убирать за соб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2 путь</a:t>
                      </a:r>
                      <a:r>
                        <a:rPr b="0" lang="ru-RU" sz="2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 - </a:t>
                      </a:r>
                      <a:r>
                        <a:rPr b="0" lang="ru-RU" sz="20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увеличить число мусорных баков в город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Мусор собирается и упаковывается для утилиз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Тратиться много средств на изготовление емкостей для сбора мусора и транспортировку 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3 путь - чаше устраивать субботни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За короткое время можно навести порядок на большой территории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Все вместе мы –сила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Есть возможность проявить свое творчество на благо всех украшая наш гор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Всегда найдутся те, кто будет отговаривать других или искать самые легкие для себя пу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6" name="Picture 34" descr="картинки мусор"/>
          <p:cNvPicPr/>
          <p:nvPr/>
        </p:nvPicPr>
        <p:blipFill>
          <a:blip r:embed="rId1"/>
          <a:stretch/>
        </p:blipFill>
        <p:spPr>
          <a:xfrm>
            <a:off x="8028000" y="5589720"/>
            <a:ext cx="1116000" cy="1268280"/>
          </a:xfrm>
          <a:prstGeom prst="rect">
            <a:avLst/>
          </a:prstGeom>
          <a:ln w="0">
            <a:noFill/>
          </a:ln>
        </p:spPr>
      </p:pic>
      <p:sp>
        <p:nvSpPr>
          <p:cNvPr id="77" name="Text Box 37"/>
          <p:cNvSpPr/>
          <p:nvPr/>
        </p:nvSpPr>
        <p:spPr>
          <a:xfrm>
            <a:off x="826920" y="260280"/>
            <a:ext cx="78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</a:rPr>
              <a:t>Как же можно решить созданную рукотворно проблему мусора в нашем город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1331640" y="475920"/>
            <a:ext cx="714852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</a:rPr>
              <a:t>Наиболее подходящий путь решения проблемы для нас – это субботники. Им нужно уделять больше времени и проводить почаще, хотя бы в пределах своего двора или дома вместе с жильца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</a:rPr>
              <a:t>Также еще один наиболее оптимальный путь решения проблемы – проводить беседы, убеждать людей в важности защиты окружающей среды от загрязнений (в данном случае от мусор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"/>
          <p:cNvSpPr/>
          <p:nvPr/>
        </p:nvSpPr>
        <p:spPr>
          <a:xfrm>
            <a:off x="179280" y="476280"/>
            <a:ext cx="1214640" cy="609480"/>
          </a:xfrm>
          <a:custGeom>
            <a:avLst/>
            <a:gdLst>
              <a:gd name="textAreaLeft" fmla="*/ 303480 w 1214640"/>
              <a:gd name="textAreaRight" fmla="*/ 911160 w 1214640"/>
              <a:gd name="textAreaTop" fmla="*/ 0 h 609480"/>
              <a:gd name="textAreaBottom" fmla="*/ 533520 h 6094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4"/>
          <p:cNvSpPr/>
          <p:nvPr/>
        </p:nvSpPr>
        <p:spPr>
          <a:xfrm>
            <a:off x="179280" y="2781360"/>
            <a:ext cx="1214640" cy="609480"/>
          </a:xfrm>
          <a:custGeom>
            <a:avLst/>
            <a:gdLst>
              <a:gd name="textAreaLeft" fmla="*/ 303480 w 1214640"/>
              <a:gd name="textAreaRight" fmla="*/ 911160 w 1214640"/>
              <a:gd name="textAreaTop" fmla="*/ 0 h 609480"/>
              <a:gd name="textAreaBottom" fmla="*/ 533520 h 6094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картинки мусор"/>
          <p:cNvPicPr/>
          <p:nvPr/>
        </p:nvPicPr>
        <p:blipFill>
          <a:blip r:embed="rId1"/>
          <a:stretch/>
        </p:blipFill>
        <p:spPr>
          <a:xfrm>
            <a:off x="7451640" y="4869000"/>
            <a:ext cx="1692360" cy="1989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картинки мусор"/>
          <p:cNvPicPr/>
          <p:nvPr/>
        </p:nvPicPr>
        <p:blipFill>
          <a:blip r:embed="rId2"/>
          <a:stretch/>
        </p:blipFill>
        <p:spPr>
          <a:xfrm>
            <a:off x="0" y="471492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5T16:50:26Z</dcterms:created>
  <dc:creator>Admin</dc:creator>
  <dc:description/>
  <dc:language>en-US</dc:language>
  <cp:lastModifiedBy>Катя</cp:lastModifiedBy>
  <dcterms:modified xsi:type="dcterms:W3CDTF">2014-11-11T12:21:59Z</dcterms:modified>
  <cp:revision>12</cp:revision>
  <dc:subject/>
  <dc:title>Экологические проблемы  г. Кулебаки</dc:title>
</cp:coreProperties>
</file>