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212-0DD1-48FF-9CB5-72CFF530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CD3-2278-468D-8FE1-F2C08293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24F-A621-4743-B8EB-A094C1D1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6F5-FD60-4F60-AD41-AC569A6E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BA4-25CF-44E1-8DCB-14CC925C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2C5-EB52-400C-933F-4BB91393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648-7D95-473D-B5F6-A5C02432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2A5-55DE-42E7-90F1-A5CA987E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A43-40B6-4270-8ACE-28B2C338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E8F-9A5D-4EE3-B761-55BFF426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DC0C-D6D9-43BD-BC4D-870EB539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178-BC6A-4A71-96BE-03AFB605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7FF9-E93D-4AD9-AC9C-DDB8D9F94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62373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user</cp:lastModifiedBy>
  <dcterms:modified xsi:type="dcterms:W3CDTF">2017-08-21T09:02:04Z</dcterms:modified>
  <cp:revision>13</cp:revision>
  <dc:subject/>
  <dc:title>Слайд 1</dc:title>
</cp:coreProperties>
</file>