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409B-2DE8-422D-BCAE-45E0AD56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700E-D183-44EA-B974-1BD7504C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B823-C426-4326-BE35-1F91F692E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615F-6277-41A4-A7E0-ADD8FB472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8183-3ED7-450F-959A-7E7D5499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AD8B-B513-4CE3-88CC-54B51312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0C87-5B59-46E5-9DED-2C085002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F83E-43F4-424F-AD5C-BA640151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88E0-A63D-4DB5-9118-33126995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32C4-D7C5-4872-962A-9BE1968D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600B-120B-4735-8BC5-19DB2A72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54AC-5FF1-4C1F-8319-542C8DBC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B092-6293-43E6-88FD-6166DBE0D4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042920" y="907920"/>
            <a:ext cx="734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Экологический светоф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042920" y="5805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октябрь 2011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332000" y="4680000"/>
            <a:ext cx="71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рок - игра для 5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00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ланета Земля и Лу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Центр галакт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6" name="zdravstvuy_skazka.mp3" descr=""/>
          <p:cNvPicPr/>
          <p:nvPr/>
        </p:nvPicPr>
        <p:blipFill>
          <a:blip r:embed="rId2"/>
          <a:stretch/>
        </p:blipFill>
        <p:spPr>
          <a:xfrm>
            <a:off x="357120" y="714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ANd9GcTlgCCR_sYgV8Cng8KJyAYCEq00vdSyk0xpwvnrK1dbxHT_ON2Pq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Солнечная система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ANd9GcTRRAWpz4lq2QRiKUEtkdBZJq4qTgvl57b5tU86neR8IVrKFLf10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16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5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265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20:20:10Z</dcterms:created>
  <dc:creator>1</dc:creator>
  <dc:description/>
  <dc:language>en-US</dc:language>
  <cp:lastModifiedBy>Щелкунова Н.А.</cp:lastModifiedBy>
  <dcterms:modified xsi:type="dcterms:W3CDTF">2011-10-24T08:08:27Z</dcterms:modified>
  <cp:revision>12</cp:revision>
  <dc:subject/>
  <dc:title>Слайд 1</dc:title>
</cp:coreProperties>
</file>